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D8A-88BC-445C-ADB8-FD00DEB8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385-F79A-4D31-96D6-0B03A414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2DDF6-AF93-43B1-8A1F-5738CCE4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1B0F1-D530-4761-A464-A8C8EE1F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B0527-DCD3-4EBC-A3A9-EDEA6BB5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B2D59-3A99-46D4-A100-67C3B743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31CF7-F9B1-4573-A4E8-657DD1DD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53BEA-C3EB-47D2-8960-6EFA8180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EFDCB-5631-430B-AD7B-0C35B32B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563BE-7D4B-4994-BDAE-B1B594AE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38DFD-D496-499C-A26C-A6DCB066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D2A54-7514-4A99-9DD1-900F6B0A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9D5-D51B-4E92-B06F-554D8AD5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5097A-B9F0-46EC-90ED-94785332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02F0B-0966-4EED-9360-4800E37B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8D2A9-C2B7-4CA4-8EB2-0FE6EEA7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052E1-17AF-4F73-8163-E4118A4C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174BD-FCF3-48AE-A451-B1016DF6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1A942-DB0E-477D-B03F-9511AA72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47B74-2D03-48D7-8134-83EC8D10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F195E-FA9C-4F1D-A77A-36855A5C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5C904-DACB-4671-BFC9-F6295DFD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90544-85B1-4BBA-B1A6-CB9C53BE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C3A-F45B-4CEB-ACA7-19F1E56E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74C88-D8AE-4F78-9C5F-17E66259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2091D-C502-4800-918A-59763E73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451A2-AC0C-46F3-B58D-D79AB382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BBD53-B07A-4071-B04E-22E11EB0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36BA8-8505-443F-B349-9CD84B81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D3750-4E4D-4E2F-93BC-9C6491E5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65893-F0A4-4D17-89D1-F0179A30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9757F-D266-44BE-A4E1-6AF09FF1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73300-5EC3-460A-A429-2702136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F850A-9F6A-430F-9576-2FA6915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D052-79ED-4F4A-B495-50065C88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69A0A-379F-4678-91D0-F5FBA872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F9131-DFCC-4820-97A5-5E4CCC16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1F9F0-33BE-4240-9076-DFF9C580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C3103-02C7-4859-931F-FAB0B44D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3DD6D-55B6-4567-B1B4-EB363079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57D06-8918-4171-8D26-1BAE7919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53B9A-E399-4958-AB18-7500C7C0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D3862-86B2-4412-B13D-61C05B74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F1741-0B63-4C93-A3DB-65DEA280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DC64A-EC3A-4665-9E27-E20D095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0FA9-401F-4893-B333-F910EB25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D57E3-A127-4F9B-A4A0-8CBFDCD6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7DA56-3976-4DD9-8B2B-937CD46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9F98C-E996-49E0-8C9B-044F7C82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348A5-40CF-4329-A96D-E4BC224D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2F708-FF26-41E4-9804-7B4D4DBE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D3E2B4-7FE3-4615-9480-C75D38E83C3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F11A85-DD44-47FC-BAE4-F4EAAD2091D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EDCFDE-7509-41F3-9B66-D13528C1415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0B7CD8-D385-46D2-8B7C-81265DE533A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8BDE30-7B87-4114-B87A-995358530C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A112-C0C5-45C5-B352-AA0C4383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674920-F9C5-452E-9693-016D411FDB0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7396F0-DF24-4E6E-8D7A-6D70F208A49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993A32-0AF7-4B9E-B166-F9D6B04DE73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2B10E8-0D96-4E79-8E78-FABD309D803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160158-2012-4949-8969-639166D42A6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9505FA-757A-43A1-80A8-C93FC06C4AF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0E70CB-24B7-4032-AFC3-94BEE1A9DF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DC14-F012-41F8-B587-BBC6C1CC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D2DE-4E7C-4F97-B1A1-D9E0B366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AFEF-046F-4C8F-A5F6-B580FDE6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B2E2-55DB-40A4-ACB0-BE5095EF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238-5062-475F-9B26-9A8359A1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4437-2F75-4501-AC51-97275C17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426A-0376-4338-837C-7757D7A8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9B6F-273E-41F9-A13C-572456A6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2A28-63C1-4F32-8BA5-9DCF436C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8A8A-0CB8-4A8B-BD87-E2C3E10F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E3BF4-58E0-4010-BCB5-0BD99AE5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47DD-9C5F-4563-9F4C-2A24450A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72B8-B8BF-402D-BA78-436091FA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31C53-D9D5-44D2-B26F-940FA1BC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E22F5-CFD1-4A1E-AA4C-F25C60C9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02A-89BD-47D5-87F2-753B98A3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2F45-2716-4802-925A-D8B4F9FE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827F-BA53-4689-8F60-076558D2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10967-3C5F-44B6-88F8-655D8B85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98999-166E-4B92-BE7C-A6AA5F60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34CFE-58B0-49FD-B706-17230356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79F7-EE94-44D0-88B0-3602C625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BFF3D-0EF3-431A-9DE4-89D5A0B5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7F289-5BCD-4BE4-84DC-4AA565E0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A5A8-F0CD-4A54-96BA-B57AC580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838F-33A0-4D5D-B487-AAF3C15D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33A-A91E-44EF-93DA-F24BCA50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347FC-B3C2-4276-B8FD-9E2EF43B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1BDE5-18D8-4ABF-99CB-9B1C8ED7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80E2-4A79-47F6-A6E6-0AB50062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4517B-DC17-4474-9D0C-B45D1198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A128-0EA3-4A2F-8118-E1C479A5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C2E2A-82B9-4F73-9850-0D1497CC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72EF-DDBD-4064-9508-6690FA80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1588-14DC-4230-B661-D97FC92C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72A8F-C198-4C4E-936A-B43EC275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CD80E-F6E1-4E59-969F-C88FED56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CF3-D4C5-49F5-B83B-6EB7EE9B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B725D-C599-4D78-A0FB-A3FCAF3B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9FF2E-484C-4FE9-A86F-48D0AE29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EB47B-03BD-4341-A76A-C14E621F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5E80-C6F6-459B-8921-2BA7ED6B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D45CE-092A-4DAA-BE03-44C6D1F5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0E640-B24B-418F-86E1-DFBDD15E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E3244-AE04-4F61-8011-365FDD71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412B3-51B4-4ED3-94E2-94363F4A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5FCF-A812-475C-9229-DC0ACF48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48E9E-8992-43D2-BBFA-446F0037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9E8-2176-46F0-939C-F7429F66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A43B-AF49-447E-9229-FE922DC3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13BE0-7628-4299-800B-7CEF91E3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066FF-8495-437F-9744-1D236E2D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B9899-0D7E-4420-B792-B8D3B8C1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65024-D34D-49BB-92A3-A8BE761D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6D4FA-EB56-43D9-99B0-F08CA5A5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425F7-3CCF-4A6B-B25D-3F2532E5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28323-05F9-4BEA-A134-59D38AED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9D251-7018-4D52-96E0-953C828F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0B024-F2D1-455B-97A1-09C3634D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A54-811E-4A9C-BBB3-C2C0CA31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7959C-CE0B-4FEF-A7C8-BB71DD1B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11EB7-C84A-472E-9802-D6FE6EECC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FEDB4-6FE3-4EA6-88D1-CA060A78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513AA-DC20-4769-8DA1-33DDFE53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3BF5C-8E97-4E06-8C2E-B2F757B6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D8034-98D8-4932-BCBB-18855FC1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B4413-A5A0-4057-AB30-6D859FF9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2C206-DECA-442F-8730-3B370C30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E9D5E-9854-4245-855F-27C26E1C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38C44-809B-4B08-9EC7-20155126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AFF-357A-4013-897E-C377AC23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142D1-74FF-48C8-85E5-7B969835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1A470-995C-4172-8585-DBDD1472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C0ADD-F18A-4BC2-BAA2-66745735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8DD39-45F0-4FD6-9811-70C55D7C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33962-1340-42F6-AFFE-792320B1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B3FAF-B326-489D-ADE5-9952917B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9B6CA-CE29-4D61-A3D3-4040B5FF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4B919-197F-48BC-945F-46D23873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80AE-BE0D-4598-8E82-AEC8F6FB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73D9C-8BF4-4A9F-B373-DEE2EE42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0E8-3D17-4D66-AFD0-C76BB2B0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C3CC8-3370-4E0A-BC71-060CE015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DCBA9-65EC-4615-B833-289BED2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1E416-580D-494B-B092-A353855E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6FD90-2C90-468F-9C97-C9AC32D4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5D5EE-445B-46A8-85D9-FFB09F14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E3EEA-7055-47AD-86B1-02B31078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1658B-A10A-4DD1-B0A0-E73ABBA0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78A87-3EEE-4AD0-9700-D1CEC6AD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F5930-3A08-428C-9537-D3A00B7D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4312A-2D7C-4E9E-B76F-B9F71AD5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7D8B-8F0C-4964-8288-D5B57F754A4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52320" y="706320"/>
            <a:ext cx="4797720" cy="3657600"/>
            <a:chOff x="652320" y="706320"/>
            <a:chExt cx="4797720" cy="365760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706320"/>
              <a:ext cx="479772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800280"/>
              <a:ext cx="45720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720" y="716040"/>
            <a:ext cx="68580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280" y="703080"/>
            <a:ext cx="64944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BFEF-EEB0-4F71-BAFE-98316A5341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010F-E729-43DF-AF2B-EBA7EDC143A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B093-05D5-4CA0-BE0D-6983A8FD6A4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6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7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AD04-00D3-450D-B3C0-65332738B38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060560"/>
            <a:ext cx="218880" cy="164880"/>
            <a:chOff x="920880" y="1060560"/>
            <a:chExt cx="218880" cy="16488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060560"/>
              <a:ext cx="21888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082520"/>
              <a:ext cx="14904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00800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6BFD-233B-409B-8F61-E87E01F406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C321-E625-4316-A3C2-FA7CCA4EE7B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109960"/>
            <a:ext cx="219240" cy="163440"/>
            <a:chOff x="2170080" y="2109960"/>
            <a:chExt cx="219240" cy="16344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109960"/>
              <a:ext cx="219240" cy="1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133720"/>
              <a:ext cx="14760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05884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EE3A-AE76-45AB-9EE9-96768486A7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6202-DDF8-41B6-A6F8-94DDC32A6AA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6939-BBE4-4EF8-8769-D4E7D90FB5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D09F-C390-40AC-B6A8-6C4A891BB49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C9E3-9400-4D1E-A331-F7E4E7CF067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C0E-4E87-4EE7-B305-A4A5CE6625C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doc.fipi.ru/navigator-podgotovki/navigator-ege/MR_rus_yaz_ege_2024.pdf" TargetMode="External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Прямоугольник 1" descr=""/>
          <p:cNvPicPr/>
          <p:nvPr/>
        </p:nvPicPr>
        <p:blipFill>
          <a:blip r:embed="rId1"/>
          <a:stretch/>
        </p:blipFill>
        <p:spPr>
          <a:xfrm>
            <a:off x="1206360" y="609480"/>
            <a:ext cx="7705800" cy="264024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2"/>
          <p:cNvSpPr/>
          <p:nvPr/>
        </p:nvSpPr>
        <p:spPr>
          <a:xfrm>
            <a:off x="1287360" y="3417840"/>
            <a:ext cx="624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Учимся с ребятами видеть части слова  (морф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Ориентируемся в членах предложения, частях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Google Shape;188;p29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Google Shape;189;p29"/>
          <p:cNvSpPr/>
          <p:nvPr/>
        </p:nvSpPr>
        <p:spPr>
          <a:xfrm>
            <a:off x="0" y="215568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Google Shape;190;p29"/>
          <p:cNvSpPr/>
          <p:nvPr/>
        </p:nvSpPr>
        <p:spPr>
          <a:xfrm>
            <a:off x="1403280" y="533520"/>
            <a:ext cx="726300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Осложняющие мо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аличие в одном варианте КИМ схожих примеров, например: 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Все, кто интересуется историей старинных орденов и медалей, обращает на них внимание при рассмотрении портретов выдающихся деятелей прошлого. – Тот, кто умеет планировать свое время, успевает сделать гораздо больше других людей 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(в обоих предложениях представлена «схожая» связь между подлежащим и сказуемым, однако только в одном, первом, предложении данная связь нарушена, то есть содержит грамматическую ошибку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аличие внутри одного примера «конкурирующих» элементов, например: </a:t>
            </a:r>
            <a:r>
              <a:rPr b="1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о завершении научного исследования будет опубликована статья в журнале «Наука и жизнь».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и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ли </a:t>
            </a:r>
            <a:r>
              <a:rPr b="1" i="1" lang="ru-RU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екоторые итоги исследования древнерусских сельских поселений подведены в сборнике «Археология севернорусской деревни X–XIII веков», недавно выпущенном в издательстве «Наук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Google Shape;196;p30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Google Shape;197;p30"/>
          <p:cNvSpPr/>
          <p:nvPr/>
        </p:nvSpPr>
        <p:spPr>
          <a:xfrm>
            <a:off x="0" y="24321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Google Shape;198;p30" descr=""/>
          <p:cNvPicPr/>
          <p:nvPr/>
        </p:nvPicPr>
        <p:blipFill>
          <a:blip r:embed="rId1"/>
          <a:stretch/>
        </p:blipFill>
        <p:spPr>
          <a:xfrm>
            <a:off x="1127160" y="139680"/>
            <a:ext cx="75405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Google Shape;212;p32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Google Shape;213;p32"/>
          <p:cNvSpPr/>
          <p:nvPr/>
        </p:nvSpPr>
        <p:spPr>
          <a:xfrm>
            <a:off x="0" y="23083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Google Shape;214;p32" descr=""/>
          <p:cNvPicPr/>
          <p:nvPr/>
        </p:nvPicPr>
        <p:blipFill>
          <a:blip r:embed="rId1"/>
          <a:stretch/>
        </p:blipFill>
        <p:spPr>
          <a:xfrm>
            <a:off x="1378080" y="433440"/>
            <a:ext cx="7497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Google Shape;228;p34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Google Shape;229;p34"/>
          <p:cNvSpPr/>
          <p:nvPr/>
        </p:nvSpPr>
        <p:spPr>
          <a:xfrm>
            <a:off x="0" y="21556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Google Shape;230;p34" descr=""/>
          <p:cNvPicPr/>
          <p:nvPr/>
        </p:nvPicPr>
        <p:blipFill>
          <a:blip r:embed="rId1"/>
          <a:stretch/>
        </p:blipFill>
        <p:spPr>
          <a:xfrm>
            <a:off x="1103400" y="328680"/>
            <a:ext cx="75834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Google Shape;244;p36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Google Shape;245;p36"/>
          <p:cNvSpPr/>
          <p:nvPr/>
        </p:nvSpPr>
        <p:spPr>
          <a:xfrm>
            <a:off x="0" y="22813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Google Shape;246;p36"/>
          <p:cNvSpPr/>
          <p:nvPr/>
        </p:nvSpPr>
        <p:spPr>
          <a:xfrm>
            <a:off x="1447920" y="271440"/>
            <a:ext cx="7518240" cy="43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Обращаем внимание н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в выборе гласной в формах прошедшего времени (учащиеся определяли спря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в глаголах-исключениях </a:t>
            </a:r>
            <a:r>
              <a:rPr b="0" i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(стелить, ненавидеть, гнать)</a:t>
            </a: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, а также причастиях и деепричастиях, образованных от 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неверно восстановленный инфинитив </a:t>
            </a:r>
            <a:r>
              <a:rPr b="0" i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(молоть – мелЕТ, брезжить – брезжУЩий, движИм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tserrat"/>
                <a:ea typeface="Montserrat"/>
              </a:rPr>
              <a:t>цЕлУЮ     мИл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tserrat"/>
                <a:ea typeface="Montserrat"/>
              </a:rPr>
              <a:t>Выспишься (2 сп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ontserrat"/>
              </a:rPr>
              <a:t>«Опасные» слова: раскле..шь, колебл..шься, (кузнечик) стрекоч..т, (снега́) припорош..т; рыщ..щие (волки), хлещ..щие (струи), руш..щееся (здание); неприемл..мый, немину..мый; зачист..вший (напильником деталь); рассе..нный, сдерж..нное (обещание), пересуш..нное (белье), насто..нное (снадобье); обид..вш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Google Shape;260;p3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Google Shape;261;p38"/>
          <p:cNvSpPr/>
          <p:nvPr/>
        </p:nvSpPr>
        <p:spPr>
          <a:xfrm>
            <a:off x="0" y="195264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Google Shape;262;p38" descr=""/>
          <p:cNvPicPr/>
          <p:nvPr/>
        </p:nvPicPr>
        <p:blipFill>
          <a:blip r:embed="rId1"/>
          <a:stretch/>
        </p:blipFill>
        <p:spPr>
          <a:xfrm>
            <a:off x="1414440" y="1328760"/>
            <a:ext cx="72360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Google Shape;268;p39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Google Shape;269;p39"/>
          <p:cNvSpPr/>
          <p:nvPr/>
        </p:nvSpPr>
        <p:spPr>
          <a:xfrm>
            <a:off x="0" y="23256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Google Shape;270;p39" descr=""/>
          <p:cNvPicPr/>
          <p:nvPr/>
        </p:nvPicPr>
        <p:blipFill>
          <a:blip r:embed="rId1"/>
          <a:stretch/>
        </p:blipFill>
        <p:spPr>
          <a:xfrm>
            <a:off x="1352520" y="274680"/>
            <a:ext cx="7394760" cy="373680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оугольник 5"/>
          <p:cNvSpPr/>
          <p:nvPr/>
        </p:nvSpPr>
        <p:spPr>
          <a:xfrm>
            <a:off x="1295280" y="335592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https://doc.fipi.ru/navigator-podgotovki/navigator-ege/MR_rus_yaz_ege_202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Google Shape;284;p41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Google Shape;285;p41"/>
          <p:cNvSpPr/>
          <p:nvPr/>
        </p:nvSpPr>
        <p:spPr>
          <a:xfrm>
            <a:off x="0" y="22986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Google Shape;286;p41"/>
          <p:cNvSpPr/>
          <p:nvPr/>
        </p:nvSpPr>
        <p:spPr>
          <a:xfrm>
            <a:off x="1038240" y="0"/>
            <a:ext cx="76122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tserrat"/>
                <a:ea typeface="Montserrat"/>
              </a:rPr>
              <a:t>Рекоменд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внимательно читать формулировку задания – слова с Н или Н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повторить исклю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проверять наличие / отсутствие зависимых слов у отглагольных прил./ пр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удё(1)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тер с Оки, редкие прохожие идут, путаясь в полах шуб и шерстя(2)ых пальто, а дóма тепло, рассыпается серебря(3)ым колокольчиком канарейка в клетке, на кухне ждёт чайник из костя(4)ого фарфора, изумрудно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ыжове(5)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ренье положе(6)о в хрустальную розетку, и на вяза(7)ой крючком кипенно-белой скатерти сияет золочё(8)ая ложе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Google Shape;300;p4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Google Shape;301;p43"/>
          <p:cNvSpPr/>
          <p:nvPr/>
        </p:nvSpPr>
        <p:spPr>
          <a:xfrm>
            <a:off x="0" y="211284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Google Shape;302;p43"/>
          <p:cNvSpPr/>
          <p:nvPr/>
        </p:nvSpPr>
        <p:spPr>
          <a:xfrm>
            <a:off x="1447920" y="271440"/>
            <a:ext cx="720252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рактика показывает, что ребята часто допускают ошибку в постановке знаков препинания в предложениях, требующих различения однородных и неоднородных определений, выраженных причастным оборотом и одиночным прилагательным (причастием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Снежные сугробы покрылись тонкой, едва видимой коркои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Анна взглянула на Вронского улыбнулась ему веселой, обещающей радость улыбкои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орыжевшая, выжженная солнцем трава выглядела жалк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Медленно падает на землю оторвавшийся от ветки кленовый лис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Особое внимание предложен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двора раздались громкие встревоженные голоса и сразу же послышался детский пла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собирали в лесу не только грибы, но и бруснику и голуб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Google Shape;316;p45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Google Shape;317;p45"/>
          <p:cNvSpPr/>
          <p:nvPr/>
        </p:nvSpPr>
        <p:spPr>
          <a:xfrm>
            <a:off x="0" y="21844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Google Shape;318;p45"/>
          <p:cNvSpPr/>
          <p:nvPr/>
        </p:nvSpPr>
        <p:spPr>
          <a:xfrm>
            <a:off x="1447920" y="271440"/>
            <a:ext cx="720252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атываем с ребя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личение омонимичных конструкций со словами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может быть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возможно» 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личение функций слова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однако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дентификацию слов и конструкций как вводных: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по словам Е. Трубецкой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к моему удивлению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следовательно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значит» 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ЗУЧАЕМ СЛОВА, КОТОРЫЕ НЕ ОТНОСЯТСЯ К ВВО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!ЯК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Google Shape;90;p18"/>
          <p:cNvSpPr/>
          <p:nvPr/>
        </p:nvSpPr>
        <p:spPr>
          <a:xfrm>
            <a:off x="25236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Google Shape;91;p18"/>
          <p:cNvSpPr/>
          <p:nvPr/>
        </p:nvSpPr>
        <p:spPr>
          <a:xfrm>
            <a:off x="0" y="2228760"/>
            <a:ext cx="9856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Google Shape;92;p18" descr=""/>
          <p:cNvPicPr/>
          <p:nvPr/>
        </p:nvPicPr>
        <p:blipFill>
          <a:blip r:embed="rId1"/>
          <a:stretch/>
        </p:blipFill>
        <p:spPr>
          <a:xfrm>
            <a:off x="1384200" y="274680"/>
            <a:ext cx="7332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Google Shape;324;p46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Google Shape;325;p46"/>
          <p:cNvSpPr/>
          <p:nvPr/>
        </p:nvSpPr>
        <p:spPr>
          <a:xfrm>
            <a:off x="0" y="21556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Google Shape;326;p46"/>
          <p:cNvSpPr/>
          <p:nvPr/>
        </p:nvSpPr>
        <p:spPr>
          <a:xfrm>
            <a:off x="1163520" y="372960"/>
            <a:ext cx="747072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ложноподчинённые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редложения с несколькими придаточными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связанными последовательной, параллельной и  однородной связь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Только вдруг почему-то всем представилось, как приходил Бозин домой, как садился за стол, ел суп или пил чай и на него, закутавшись в мягкий пух облака, своими чистыми и добрыми глазами смотрел ангел, словно сыночек, дождавшийся своего от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а поняла со всей ясностью (1) что случилось именно то (2) о чём утром говорило предчувствие (3) и (4) что она покидает особняк и прежнюю свою жизнь на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Google Shape;332;p47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Google Shape;333;p47"/>
          <p:cNvSpPr/>
          <p:nvPr/>
        </p:nvSpPr>
        <p:spPr>
          <a:xfrm>
            <a:off x="0" y="209556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Google Shape;334;p47"/>
          <p:cNvSpPr/>
          <p:nvPr/>
        </p:nvSpPr>
        <p:spPr>
          <a:xfrm>
            <a:off x="1447920" y="271440"/>
            <a:ext cx="72025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Осложняющим фактором при выполнении задания 20 традиционно является </a:t>
            </a:r>
            <a:r>
              <a:rPr b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стык союзов (союзных средств)</a:t>
            </a: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Ребенок имеет право быть тем (1) кто он есть </a:t>
            </a:r>
            <a:r>
              <a:rPr b="1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(2) и (3) если </a:t>
            </a:r>
            <a:r>
              <a:rPr b="0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мы хотим быть честными (4) то не надо ждать (5) чтобы он стал совершенным человеком (По Я. Корча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Много работаем с текс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Google Shape;340;p4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Google Shape;341;p48"/>
          <p:cNvSpPr/>
          <p:nvPr/>
        </p:nvSpPr>
        <p:spPr>
          <a:xfrm>
            <a:off x="0" y="18558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Google Shape;342;p48"/>
          <p:cNvSpPr/>
          <p:nvPr/>
        </p:nvSpPr>
        <p:spPr>
          <a:xfrm>
            <a:off x="1447920" y="271440"/>
            <a:ext cx="72025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неумение отличить один случай постановки знака препинания от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мешение случаев обособления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риложения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 знаком тире и постановки тире между подлежащим и сказу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мешение случаев постановки двоеточия при однородных членах с обобщающим словом и постановки двоеточия в БС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ботаем над грамматической основой предложения, ищем ПО, ДО, О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Google Shape;380;p5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Google Shape;381;p53"/>
          <p:cNvSpPr/>
          <p:nvPr/>
        </p:nvSpPr>
        <p:spPr>
          <a:xfrm>
            <a:off x="0" y="26989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Google Shape;382;p53"/>
          <p:cNvSpPr/>
          <p:nvPr/>
        </p:nvSpPr>
        <p:spPr>
          <a:xfrm>
            <a:off x="1317600" y="169920"/>
            <a:ext cx="720252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лексический повтор + анализ его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антитеза + анализ её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выбор соответствующих терминов, называющих перенос признаков по смежности (метоним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усиление признака в исходном макротексте (градац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расчленение (дробление) единой фразы на отдельные части (парцелляц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Обращаем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 внимание на выделение курси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Учим не путать анафору и многосоюз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РАБОТАЕМ СО СПИСКОМ ИВС НА САЙТЕ РЕШУ.ЕГ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Google Shape;372;p52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Google Shape;373;p52"/>
          <p:cNvSpPr/>
          <p:nvPr/>
        </p:nvSpPr>
        <p:spPr>
          <a:xfrm>
            <a:off x="0" y="11095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Google Shape;374;p52"/>
          <p:cNvSpPr/>
          <p:nvPr/>
        </p:nvSpPr>
        <p:spPr>
          <a:xfrm>
            <a:off x="1447920" y="271440"/>
            <a:ext cx="720252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Чаще всего выпускники испытывают трудности при определении фразеологизмов как раз в тех случаях, когда фразеологический оборот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привычным для повседневной разговорной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5"/>
          <p:cNvSpPr/>
          <p:nvPr/>
        </p:nvSpPr>
        <p:spPr>
          <a:xfrm>
            <a:off x="1127160" y="2209680"/>
            <a:ext cx="7883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(1)Кружила январская метелица, скрипели мёрзлые тополя в переулке, верховой ветер гремел железом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о и дел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рывал снежную пыль с карнизов, нёс её вдоль побелённых заборов, над свежими сугробами, а оно, это единственное в ночи окно, светилось зелёным уютным пятном и, всегда одинаково яркое, тёплое, занавешенное, притягивало к себе, вызывало приятное ощущение неразгаданной тайны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(25)Нет мудрости в том, что кто-то, завидев прекрасное, бросается к нему, присоединяет к себе и делает своей собственностью: эта собственность неминуем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ано или поздн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делает его своим рабом. (26)Настоящая мудрость приходит к человеку, когда, завидев прекрасное, он не бросается к нему, а собирает друзей и показывает. (27)Тогда прекрасное само приходит к нему, как к хозяину своему и другу, и свободно садится со всеми за стол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TextBox 3"/>
          <p:cNvSpPr/>
          <p:nvPr/>
        </p:nvSpPr>
        <p:spPr>
          <a:xfrm>
            <a:off x="1278000" y="150984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Google Shape;106;p20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Google Shape;107;p20"/>
          <p:cNvSpPr/>
          <p:nvPr/>
        </p:nvSpPr>
        <p:spPr>
          <a:xfrm>
            <a:off x="0" y="244152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Google Shape;108;p20"/>
          <p:cNvSpPr/>
          <p:nvPr/>
        </p:nvSpPr>
        <p:spPr>
          <a:xfrm>
            <a:off x="1216080" y="222120"/>
            <a:ext cx="7564320" cy="32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Повторяем и отрабат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определе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стилевой принадлеж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4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незнание лингвистическ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терминологи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(отглагольная лексика, абстрактная лексика, канцеляризм, термин, книжная лексика, разговорная лексика, имя существительное в родительном падеже, неполное предложение, односоставное предло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Google Shape;114;p21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Google Shape;115;p21"/>
          <p:cNvSpPr/>
          <p:nvPr/>
        </p:nvSpPr>
        <p:spPr>
          <a:xfrm>
            <a:off x="0" y="20955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Google Shape;116;p21"/>
          <p:cNvSpPr/>
          <p:nvPr/>
        </p:nvSpPr>
        <p:spPr>
          <a:xfrm>
            <a:off x="1154160" y="133200"/>
            <a:ext cx="749628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Системно провожу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орфоэпическую разминку, причем слова должны именно звучать, а не быть просто написанными или напечатан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❗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Систему упражнений также важно строить не на решении однотипных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 (по типу ЕГЭ) задании,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1)  на готовом материале, например, разучивание слов с готовыми ударениями и распределение их на группы по какому-либо признаку (ударение на первом слоге, на втором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2)  на усложненном материале, например расставить ударения и определить, по какому принципу сгруппированы слова, и распределить слова на группы в зависимости от уда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3)  в нестандартных ситуациях, например составление предложений и текста, включающих слова, которые вызывают трудности в произношении, и составление тестов по теме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Picture background"/>
          <p:cNvPicPr/>
          <p:nvPr/>
        </p:nvPicPr>
        <p:blipFill>
          <a:blip r:embed="rId1"/>
          <a:stretch/>
        </p:blipFill>
        <p:spPr>
          <a:xfrm>
            <a:off x="1031760" y="0"/>
            <a:ext cx="7313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Google Shape;130;p2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Google Shape;131;p23"/>
          <p:cNvSpPr/>
          <p:nvPr/>
        </p:nvSpPr>
        <p:spPr>
          <a:xfrm>
            <a:off x="0" y="25383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Google Shape;132;p23"/>
          <p:cNvSpPr/>
          <p:nvPr/>
        </p:nvSpPr>
        <p:spPr>
          <a:xfrm>
            <a:off x="1447920" y="271440"/>
            <a:ext cx="7202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ые паронимические па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величина — ве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граничить — отграни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дражительность — разд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отка ум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ключаем задания, связанные с паронимией, в комплексное повторение морфологии, лексики, орфографии — навык различать оттенки паронимов и грамотно употреблять их в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риентируемся на сборник паронимов  по материалам ФИП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Google Shape;138;p24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Google Shape;139;p24"/>
          <p:cNvSpPr/>
          <p:nvPr/>
        </p:nvSpPr>
        <p:spPr>
          <a:xfrm>
            <a:off x="0" y="22287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Google Shape;140;p24"/>
          <p:cNvSpPr/>
          <p:nvPr/>
        </p:nvSpPr>
        <p:spPr>
          <a:xfrm>
            <a:off x="1447920" y="271440"/>
            <a:ext cx="72025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ый плеоназм (исключить лишнее слово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перспективы буду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«Поделись праздником со всеми! -  таков ведущий лейтмотив фотовыставки «Россия – Родина мо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ая замена слова (лексическая сочетаемость, заменить неверно употреблённое слово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6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«Два месяца назад я приехал в родной город, чтобы осуществить редакционное задание, и внезапно принял решение остаться на родин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Google Shape;149;p25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Google Shape;150;p25"/>
          <p:cNvSpPr/>
          <p:nvPr/>
        </p:nvSpPr>
        <p:spPr>
          <a:xfrm>
            <a:off x="0" y="232560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Google Shape;151;p25"/>
          <p:cNvSpPr/>
          <p:nvPr/>
        </p:nvSpPr>
        <p:spPr>
          <a:xfrm>
            <a:off x="1447920" y="271440"/>
            <a:ext cx="72025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Особое внимание следует уделить верному </a:t>
            </a:r>
            <a:r>
              <a:rPr b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оформлению исправленного слова</a:t>
            </a: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 в бланке ответов: запись слова с учётом всех норм современного русского языка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в том числе и орфографичес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Picture background"/>
          <p:cNvPicPr/>
          <p:nvPr/>
        </p:nvPicPr>
        <p:blipFill>
          <a:blip r:embed="rId1"/>
          <a:stretch/>
        </p:blipFill>
        <p:spPr>
          <a:xfrm>
            <a:off x="1492200" y="1069920"/>
            <a:ext cx="569916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Google Shape;180;p2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Google Shape;181;p28"/>
          <p:cNvSpPr/>
          <p:nvPr/>
        </p:nvSpPr>
        <p:spPr>
          <a:xfrm>
            <a:off x="0" y="27255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Google Shape;182;p28"/>
          <p:cNvSpPr/>
          <p:nvPr/>
        </p:nvSpPr>
        <p:spPr>
          <a:xfrm>
            <a:off x="1198440" y="195120"/>
            <a:ext cx="7785360" cy="29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 с идентификацией вида грамматической оши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отка уме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труктурируем предложения, выделяя главные ч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графически выделяем оборот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учим видеть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лова-маркёры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 (несогласованное приложение, обороты, однородные члены) и выделять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медленное смысловое чтение каждого предложения в правой колонке таблицы и каждого тезиса в л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УМЦ</cp:lastModifiedBy>
  <dcterms:modified xsi:type="dcterms:W3CDTF">2025-04-09T06:30:53Z</dcterms:modified>
  <cp:revision>4</cp:revision>
  <dc:subject/>
  <dc:title>Слайд 1</dc:title>
</cp:coreProperties>
</file>