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D59-9837-408F-BF00-2C2BCB01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1D4-7ED9-4629-B839-E76D954A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8E372-5EAA-4031-8C5B-7E61AB56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A0142-9FE4-4AFB-AA68-411B90F8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0B47-7D6F-4F91-B4C9-52BC91B3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FC224-B14D-4B53-840D-DC584F27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23AB1-B3A8-4579-8779-461CE2B3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11390-2863-4EFE-8BCC-D70086B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21D05-90BF-4B62-AFFF-6FC78354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283A0-2EDA-40EE-A42A-3C0EE71A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FFE9C-2DA2-4443-A6B2-0483EE5F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09D39-FC61-4153-A283-65215AC9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BF7-32A1-469F-A1CC-98CA9EA2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35143-A0DB-40AA-8759-A8EA8B7B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A061D-0CA3-4495-A3E6-9424B334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FE9F5-828C-48AE-9AB1-BE243171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C3776-AB68-4342-AE5C-132F69DE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7072D-E510-4D8B-A2FA-0B21DC82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87C3C-B4FD-4DA0-B572-0BD73389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C8657-F080-43C0-9834-DADA5DB5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A1370-4021-4F5B-A102-1CF0F29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2A56A-F714-4179-9D29-7546CD02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A692B-9D41-4817-9B92-210B4BED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FA4-3FA9-45F7-A977-B0FDF0A4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4E7D1-F3EB-4C8C-9FB7-2E5A4D93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F030B-0A12-4FD3-89CF-43505ACB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F7B39-DE34-4CE1-9645-D4E2D654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7DFE1-6B7A-415F-8BBD-221CBDFB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CF70D-E059-4946-A92A-2FBB8C5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6CECB-8FA8-4DED-8999-0448B15A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C7717-9FAD-44BE-B11A-0983D32A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DA020-6D4A-49E5-A7D3-AAD40509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61F8F-17B2-42DD-A251-B630A4B4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BCA32-2ABF-44C3-BC0F-796EC02C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C096-9001-47EF-84D2-4445EBCB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81D33-9EDE-46AC-BD1D-CF899A1B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695BA-43D1-4CA9-AA5C-949C432B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912F2-67DA-48B9-B56C-81DF6579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1A74E-C0DF-4497-A029-3C633854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6CCE3-C8E9-46D4-8BCD-65932D0C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9EB9F-5DD4-4CA1-95D8-BC39E61F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C8892-71C6-40EA-B0D8-6C9D78A6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1ADDF-0DFC-44E7-B2AE-599A7A29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D5DE3-18EA-4F24-9C96-748D0B3E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E6145-20CE-4D22-861F-622144BB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C504-37AD-4975-834A-9A399EAE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853C7-5D00-4C38-996A-2988DF31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41816-8AED-4B27-9CED-0B34DD0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BD9F6-7D7A-4157-9A50-4532A9E2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1F664-98D6-47CA-A8B9-712AEB39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6D16E-C574-4171-A5BD-17CE9FEA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D8464-BA7B-449C-8EFD-FFA58D86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18421-87AF-4508-B341-643CAB78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B3CF9-BF17-44A6-BC45-9DDAFB28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1C116-7F86-4230-9EA9-773FD678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2739F-069A-402D-A81E-0D0153F3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665F-693A-4DA8-9A75-7F2834F4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DDA16-6CA0-4C07-ACD7-38143CDB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BECD0-8EF8-4FA8-98B9-81F725AD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CFEF5-B6BE-4EC4-8584-61A9F26C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ADD2A-AFFE-4C23-81C6-CC96BF3D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08761-7E38-4F0B-8988-07B406A0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F33F5-3665-45EA-915B-611B3C20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8A7B7-65AB-4CD4-9B10-E55DBD58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67175-4D27-4F2B-9EA5-5ED7BE2B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D84EC-5068-4C7B-A879-C4857CE7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A19FB-A1FD-4D00-9731-2135E396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E6FC-06E9-4509-82EF-A89C35AE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EF1F2-0368-485C-AF3B-0EC5DDE5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B3C97-909A-4A75-B012-2E0B6A01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EE840-3D0F-4766-BF2F-83EB31A8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087B6-A109-4844-B847-BCDA86E1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1121D-BE71-47DD-B6F0-82CED44C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407DD-2F69-4D53-AD56-D6797528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F4C0D-A4B6-4B94-B18E-040C71C2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48155-1DDD-48FF-9351-4A3B00C8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C2F77-69EE-454F-9383-7A0A6C23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D5546-86BB-431A-AAEB-96988E92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98B0-AB46-40DC-B9A5-B40E6A85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D7CE1-C244-4FD3-8F73-4A8F8944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3F378-E884-43BB-A9D2-E9A12A17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7157D-35C6-466E-BB60-EE11F4C0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FFDB3-3BBD-4AB0-98E5-4F45190C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1C1C0-4937-4A64-B4C2-64726CEC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DD216E-1FB9-4382-927A-0A2B90C7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9C27B9-98E9-4E30-A9BE-5F07B146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09753-1648-4B2A-8BBA-755DF76C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9E54A-E86E-4ACF-8D3D-267A9035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13D34-60FD-41F6-98D0-4C1EE4D8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2D62-D25F-4E24-A538-31E0DD1C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EEDF7-D627-4857-AA75-9406B312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9C8976-048C-458F-B078-598E7A34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600789-CA83-4A49-8C99-12567C83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614F0-BEAB-47DB-A8BC-2A5CC329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6270F-F18B-4A84-A708-AA59AC82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2CF00-4C66-4C50-835A-42D46CA0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80946-9A4A-4554-AF5A-C39C23FC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98F43-A4AD-4A0E-8E2D-B8DA3DB7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9F0AF-A927-43FE-A8CB-447788C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2C9C8-E594-41B1-973B-3835EF7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B382-75D2-4B29-8223-5731F133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AAB31-4914-43A6-BBF0-2F341E92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155CB-5F92-4AB5-B9A6-9483BE55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1E127-9B49-44D7-A4F5-B7368A9E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ECB02-94CC-4268-9CB0-358723E6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2F68B-BF8B-47F6-A705-6FDF5107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21728-ECB1-410B-B233-FE343161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08E333-5BC1-41DA-B183-A87332CC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747C22-91CA-48F4-9562-EF573FD7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963D6-20E2-4261-94F7-02527DE7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055B6D-091B-4C93-806B-C90AF409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502-85AC-4C9D-833B-B3497832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332A-EDDC-41DF-89E5-E15B5A3E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17122-375D-435F-912B-9CD26F33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D6B18-EF9B-4F54-A9C8-90247433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D3797E-D067-43DE-B44B-8DB64B68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E4C3DB-0026-4D12-8987-AD33B751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BF764-6C75-4B10-893A-B728FCA7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10A7-856F-4DF8-B386-16E5180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D48A-49F3-422F-A298-AE615B06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3ABD-15E1-4F5C-A87B-EA749718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88C2-36C2-447C-8ADD-4059672F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5C82-F736-44A5-B636-C81C009D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5D40-55CD-4633-AE12-1A517B50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D7E14-3E4F-4D9D-9A9A-8454068C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0550-5AE2-4559-87BD-C4571EDC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F465-D631-4C29-93B4-758E2C47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08F-98B0-4E35-897A-4E747CD2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2459-55E6-4792-BB46-D3AD4132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071B-A9F8-485F-94A6-15A1B04C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7A591-AF3D-4C77-9D3B-3A3569D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94A2-F336-4E4D-8C17-3EDB61AC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6FEB-8954-41F2-8C98-989070A4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312F-7A3B-47E2-A46A-B7EC34AA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5C52-F308-470D-A592-3FFC6B9A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5CBDA-BE1F-4270-BF0A-5C36DA5E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59AB7-7E64-4BDE-BA6F-65750C0F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D94A-DB5C-4EA2-9269-43789CFF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B97-3414-4718-BAFB-C914DB49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EA19-584B-43B4-BCF3-BF0795CF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91008-FE9C-481C-B3AE-F711B9A3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77E2C-A872-4194-8AFB-0103117E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BEE3B-9602-4EE1-8C4A-AD024272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7F80-4290-403A-BA14-B7F3D94A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02525-0779-4BB9-8C45-3BA0A043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61AE-0C84-43F6-B851-92375144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B938E-4F78-4FA2-9D8F-E7154E4A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7EF7-0856-4467-B51D-79A3FC2E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D27C4-2719-42D5-9355-7A3ADE54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9CA-393F-418B-ADDE-29F88F7F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ADF1-DC3C-4A63-859E-A9CDD7DF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B53E8-0F86-4439-A5DD-0685E4F3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947A-EB7A-4E32-B18A-F85B7B36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716A6-D2F4-4C65-860E-E7DCCB27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BC915-EB22-4827-B821-A0409E17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FAAEB-F527-4D6A-8633-37925E88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022FB-DFE0-4904-B7A5-7A94B8A2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905A8-D75A-4BFE-9828-420E3373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92FC3-B4D4-40D1-B143-C2363245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0CA79-99B3-4053-A0CC-3E250148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311-9F7F-4689-AAB9-1FCE2A42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8EAFB-1A72-46D8-9FA5-6F183E67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4AA17-D544-4C08-998E-FB0462FF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FCB8-9E26-440C-AE7C-E23F0AF1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691D6-34A7-4E4E-B7FA-1C2DB6E0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EC20F-3FAA-493C-B37A-00E80F56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972BE-67D7-4E7D-87C9-B2C92459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8942B-7AEB-4745-997C-E68EC5D8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A019C-FFAE-49C6-B375-4F7EF53D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EE12E-115D-4670-ABA2-73B99B35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2EEC0-B114-4AB5-8E39-12B0676B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CB6-5FAE-42DD-A309-AAB9EE3D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0B45C-3C6E-449A-9DA0-1B546FEA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72A8C-4729-472F-A1DF-538F17CC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95ACF-8D0E-4C7D-B11A-85560AF1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73CE5-5672-42F6-A8E8-FCF7BB5B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9D856-FC95-41D3-A7AA-538DDB8A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9B26-2E48-4B36-86D4-C5703DE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10109-45FE-43F5-A502-664E7A8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BB9C7-E747-4FF7-999B-4CB9C07B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EECD2-6900-4CED-BF45-F9F5C4DB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2F943-CC1F-47D4-A131-912AA215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2B6-36CF-493E-8EBC-8AE4BA7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14AD6-D431-411B-97D9-5BA67C13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07D2F-F12C-4C41-90FE-84C282E3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B1B6D-800A-4A33-BA9C-30129FFB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4CD78-68D5-465A-BD14-3C952409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FC83E-E823-4220-BAC0-D9014F7B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208B4-2587-4D5D-997E-76C5221F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CCA55-6EFA-4931-8F10-EB49C025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3B37E-B837-4A0D-8896-30B7FE3D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39EF0-E4D6-44CE-879C-6F9EAFDE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AA145-C4DC-4FB9-8776-6A9D36CF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79D-50D1-49ED-A106-C38433A0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5DEC7-CDE8-40D3-8E72-D1B4ED70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752FB-434A-4870-AE97-8FAF718F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0EF86-00B8-4015-A639-03424498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73317-ECC5-4425-A11F-5FE4DB18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0C6DA-E20F-4946-A9BC-4BF0EA02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9BAE2-5C00-4272-8334-A1F0834F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E79DD-621E-4F5C-A736-F3E9B3B9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A3B6B-B4D0-44AC-8743-AE4E26B7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236FC-21FA-428C-920F-C2B9E8DF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1DBF6-D805-4DC0-8EAB-DC578938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FEB8-63B4-4CA8-9F06-C18E8EA7E2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2797-C9AB-4454-9F5E-E85B94D295F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C5DD-EBC1-4539-B823-35812473A35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EB77-ACD1-4ECA-BFC9-AF2EB5CF9FA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2EE6-EA40-4715-A71D-52E2A17D2D3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50E0-F272-49AC-8532-6017660662C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E21D-FF85-4220-BA3E-246430276B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5643-527E-4A54-B8D5-F230335A17B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AC61-3700-4606-B80D-8648F58753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30824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398160" y="452916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4C48-8D25-4E98-A063-69985D7546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9C61-3F86-4744-B551-51FE4E33E0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E2CF-F606-48E5-AA5C-59F5928049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7EB6-982B-4F93-B2ED-56FDE6B8B0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46A1-FA8F-4782-9576-89B17829529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4DC5-9E4A-472D-8632-B401AD3034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F7B2-A19D-49A4-9AEB-8A7A2638CEB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0BA1-7D7B-4403-A670-7EB735035BF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1480" y="1773000"/>
            <a:ext cx="6686640" cy="30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178dbb"/>
                </a:solidFill>
                <a:latin typeface="Century Gothic"/>
              </a:rPr>
              <a:t>ИЗМЕНЕНИЯ в тестовой части ОГЭ </a:t>
            </a:r>
            <a:r>
              <a:rPr b="1" lang="ru-RU" sz="4900" spc="-1" strike="noStrike">
                <a:solidFill>
                  <a:srgbClr val="178dbb"/>
                </a:solidFill>
                <a:latin typeface="Century Gothic"/>
              </a:rPr>
              <a:t>по русскому языку</a:t>
            </a:r>
            <a:br>
              <a:rPr sz="4900"/>
            </a:br>
            <a:endParaRPr b="0" lang="en-US" sz="49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941480" y="4776480"/>
            <a:ext cx="6686640" cy="14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Century Gothic"/>
              </a:rPr>
              <a:t>  </a:t>
            </a:r>
            <a:r>
              <a:rPr b="1" lang="ru-RU" sz="3200" spc="-1" strike="noStrike">
                <a:solidFill>
                  <a:srgbClr val="595959"/>
                </a:solidFill>
                <a:latin typeface="Century Gothic"/>
              </a:rPr>
              <a:t>Практические рекомендации для подготовки выпускников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274400" y="259920"/>
            <a:ext cx="6683400" cy="7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7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211" name="Picture 2" descr=""/>
          <p:cNvPicPr/>
          <p:nvPr/>
        </p:nvPicPr>
        <p:blipFill>
          <a:blip r:embed="rId1"/>
          <a:srcRect l="11571" t="38735" r="8737" b="33642"/>
          <a:stretch/>
        </p:blipFill>
        <p:spPr>
          <a:xfrm>
            <a:off x="611280" y="2276640"/>
            <a:ext cx="8031240" cy="2089080"/>
          </a:xfrm>
          <a:prstGeom prst="rect">
            <a:avLst/>
          </a:prstGeom>
          <a:ln w="0">
            <a:noFill/>
          </a:ln>
        </p:spPr>
      </p:pic>
      <p:sp>
        <p:nvSpPr>
          <p:cNvPr id="1212" name="Прямоугольник 4"/>
          <p:cNvSpPr/>
          <p:nvPr/>
        </p:nvSpPr>
        <p:spPr>
          <a:xfrm>
            <a:off x="1332000" y="836640"/>
            <a:ext cx="73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но посвящено орфографическим навыкам. В микротексте пропущены буквы, пропуски пронумерованы. Надо внести в бланк ответов те цифры, на месте которых пишется определённая буква (например, И)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Заголовок 1"/>
          <p:cNvSpPr/>
          <p:nvPr/>
        </p:nvSpPr>
        <p:spPr>
          <a:xfrm>
            <a:off x="1332000" y="4357800"/>
            <a:ext cx="6683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TextBox 6"/>
          <p:cNvSpPr/>
          <p:nvPr/>
        </p:nvSpPr>
        <p:spPr>
          <a:xfrm>
            <a:off x="882720" y="5057640"/>
            <a:ext cx="775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каждое предложение: акцент на осмысление прочитанного!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Делаем морфемный разбор слова, в котором пропущена буква. Если надо (например, орфограмма в окончании), определяем часть речи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меняем нужное правило и вписываем букву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выписываем в строку ответа подходящие цифры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6848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Задание 8</a:t>
            </a: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216" name="Picture 2" descr=""/>
          <p:cNvPicPr/>
          <p:nvPr/>
        </p:nvPicPr>
        <p:blipFill>
          <a:blip r:embed="rId1"/>
          <a:srcRect l="11745" t="41850" r="8844" b="37357"/>
          <a:stretch/>
        </p:blipFill>
        <p:spPr>
          <a:xfrm>
            <a:off x="1228680" y="2997360"/>
            <a:ext cx="7628040" cy="1498320"/>
          </a:xfrm>
          <a:prstGeom prst="rect">
            <a:avLst/>
          </a:prstGeom>
          <a:ln w="0">
            <a:noFill/>
          </a:ln>
        </p:spPr>
      </p:pic>
      <p:sp>
        <p:nvSpPr>
          <p:cNvPr id="1217" name="Прямоугольник 4"/>
          <p:cNvSpPr/>
          <p:nvPr/>
        </p:nvSpPr>
        <p:spPr>
          <a:xfrm>
            <a:off x="1258920" y="851040"/>
            <a:ext cx="7629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Надо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поставить слово в правильную форму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(вставить в указанное предложение). Встречаются слова разных частей речи: существительные, прилагательные, глаголы, числительные. Предлагаются формы слов, вызывающие наибольшее затруднение: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.п. и И.п. мн.ч., другие формы существи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сапог, помидоров; месяцы, доктора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равнительная степень прилага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лучше, меньше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велительное наклонение и другие формы глаголов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лягте, разожжет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косвенные падежи количественных числи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свыше пятисот, обеим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 и др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TextBox 6"/>
          <p:cNvSpPr/>
          <p:nvPr/>
        </p:nvSpPr>
        <p:spPr>
          <a:xfrm>
            <a:off x="1619280" y="4473720"/>
            <a:ext cx="41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TextBox 8"/>
          <p:cNvSpPr/>
          <p:nvPr/>
        </p:nvSpPr>
        <p:spPr>
          <a:xfrm>
            <a:off x="1173240" y="5013360"/>
            <a:ext cx="768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предложение: акцент на осмысление прочитанного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споминаем правильную форму слова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одготовке используем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заучиван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монический мет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нимательно вписываем в строку ответа слово в нужной форме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щая внимание на орфографию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Рисунок 3" descr=""/>
          <p:cNvPicPr/>
          <p:nvPr/>
        </p:nvPicPr>
        <p:blipFill>
          <a:blip r:embed="rId1"/>
          <a:stretch/>
        </p:blipFill>
        <p:spPr>
          <a:xfrm>
            <a:off x="995400" y="4292640"/>
            <a:ext cx="3222720" cy="24177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2" descr="Picture background"/>
          <p:cNvPicPr/>
          <p:nvPr/>
        </p:nvPicPr>
        <p:blipFill>
          <a:blip r:embed="rId2"/>
          <a:stretch/>
        </p:blipFill>
        <p:spPr>
          <a:xfrm>
            <a:off x="971640" y="184320"/>
            <a:ext cx="3168720" cy="4028760"/>
          </a:xfrm>
          <a:prstGeom prst="rect">
            <a:avLst/>
          </a:prstGeom>
          <a:ln w="0">
            <a:noFill/>
          </a:ln>
        </p:spPr>
      </p:pic>
      <p:pic>
        <p:nvPicPr>
          <p:cNvPr id="1222" name="Рисунок 5" descr=""/>
          <p:cNvPicPr/>
          <p:nvPr/>
        </p:nvPicPr>
        <p:blipFill>
          <a:blip r:embed="rId3"/>
          <a:srcRect l="0" t="9834" r="0" b="0"/>
          <a:stretch/>
        </p:blipFill>
        <p:spPr>
          <a:xfrm>
            <a:off x="4827600" y="3633840"/>
            <a:ext cx="3511440" cy="3076560"/>
          </a:xfrm>
          <a:prstGeom prst="rect">
            <a:avLst/>
          </a:prstGeom>
          <a:ln w="0">
            <a:noFill/>
          </a:ln>
        </p:spPr>
      </p:pic>
      <p:sp>
        <p:nvSpPr>
          <p:cNvPr id="1223" name="TextBox 6"/>
          <p:cNvSpPr/>
          <p:nvPr/>
        </p:nvSpPr>
        <p:spPr>
          <a:xfrm>
            <a:off x="4743360" y="22716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b4e6"/>
                </a:solidFill>
                <a:latin typeface="Century Gothic"/>
              </a:rPr>
              <a:t>Склонению числительных –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b4e6"/>
                </a:solidFill>
                <a:latin typeface="Century Gothic"/>
              </a:rPr>
              <a:t>особое внимание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4" name="Picture 4" descr="Picture background"/>
          <p:cNvPicPr/>
          <p:nvPr/>
        </p:nvPicPr>
        <p:blipFill>
          <a:blip r:embed="rId4"/>
          <a:stretch/>
        </p:blipFill>
        <p:spPr>
          <a:xfrm>
            <a:off x="4832280" y="981000"/>
            <a:ext cx="3541680" cy="2652840"/>
          </a:xfrm>
          <a:prstGeom prst="rect">
            <a:avLst/>
          </a:prstGeom>
          <a:ln w="0">
            <a:noFill/>
          </a:ln>
        </p:spPr>
      </p:pic>
      <p:sp>
        <p:nvSpPr>
          <p:cNvPr id="1225" name="Прямая соединительная линия 8"/>
          <p:cNvSpPr/>
          <p:nvPr/>
        </p:nvSpPr>
        <p:spPr>
          <a:xfrm>
            <a:off x="4427640" y="227160"/>
            <a:ext cx="0" cy="64465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557000" y="393840"/>
            <a:ext cx="668340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12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187280" y="981000"/>
            <a:ext cx="7732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ние 12 похоже на прежнее 8, но стало сложнее. Если раньше слово, которое надо заменить стилистически нейтральным, было дано в формулировке задания, то теперь слово с заданной характеристикой надо сначала найти в указанном отрывк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8" name="Picture 2" descr=""/>
          <p:cNvPicPr/>
          <p:nvPr/>
        </p:nvPicPr>
        <p:blipFill>
          <a:blip r:embed="rId1"/>
          <a:srcRect l="8858" t="35438" r="6179" b="45861"/>
          <a:stretch/>
        </p:blipFill>
        <p:spPr>
          <a:xfrm>
            <a:off x="755640" y="2395440"/>
            <a:ext cx="8209080" cy="136836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4"/>
          <p:cNvSpPr/>
          <p:nvPr/>
        </p:nvSpPr>
        <p:spPr>
          <a:xfrm>
            <a:off x="1557360" y="38718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0" name="TextBox 5"/>
          <p:cNvSpPr/>
          <p:nvPr/>
        </p:nvSpPr>
        <p:spPr>
          <a:xfrm>
            <a:off x="1057320" y="4476600"/>
            <a:ext cx="76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предложения:  все то же осмысление прочитанного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Ищем нужное слово или фразеологизм. В задании 12 встречаются синонимы, антонимы, слова высокого стиля речи, разговорные (просторечные) слова, фразеологизмы. Особое внимание – «незаметным» фразеологизмам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необходимости заменяем другим словом и записываем ответ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щая внимание на орфографию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Итог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1480" y="1412640"/>
            <a:ext cx="66866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дводя итог, можно сказать, что тестовая часть стала разнообразнее, но сложнее: времени и сил на подготовку придётся затратить больш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74680" y="260280"/>
            <a:ext cx="7950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В 2024 году изменения коснулись ОГЭ по русскому языку и литературе</a:t>
            </a:r>
            <a:br>
              <a:rPr sz="3200"/>
            </a:b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79" name="Picture 2" descr="Изменения в КИМ ОГЭ 2024"/>
          <p:cNvPicPr/>
          <p:nvPr/>
        </p:nvPicPr>
        <p:blipFill>
          <a:blip r:embed="rId1"/>
          <a:stretch/>
        </p:blipFill>
        <p:spPr>
          <a:xfrm>
            <a:off x="826920" y="1484280"/>
            <a:ext cx="8128080" cy="5200560"/>
          </a:xfrm>
          <a:prstGeom prst="rect">
            <a:avLst/>
          </a:prstGeom>
          <a:ln w="0">
            <a:noFill/>
          </a:ln>
        </p:spPr>
      </p:pic>
      <p:sp>
        <p:nvSpPr>
          <p:cNvPr id="1180" name="Прямая соединительная линия 5"/>
          <p:cNvSpPr/>
          <p:nvPr/>
        </p:nvSpPr>
        <p:spPr>
          <a:xfrm>
            <a:off x="3276720" y="5732640"/>
            <a:ext cx="4464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6848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Теперь в экзамене не 7, </a:t>
            </a:r>
            <a:br>
              <a:rPr sz="3600"/>
            </a:b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а 11 тестовых заданий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2" name="TextBox 5"/>
          <p:cNvSpPr/>
          <p:nvPr/>
        </p:nvSpPr>
        <p:spPr>
          <a:xfrm>
            <a:off x="684360" y="1917720"/>
            <a:ext cx="8388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Соответственно, изменились номера привычных заданий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2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2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пределение грамматических основ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3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: синтаксический анализ предложений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4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: синтаксический и пунктуационный анализ предложений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5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3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пунктуация, расставить знаки препинани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6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5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фографический анализ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7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фография, вставить пропущенные буквы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8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грамматические нормы, поставить слово в нужную форму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9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4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замена словосочетания на синонимичное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я 10, 11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ие №№6 и 7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работа с текстом, лексика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12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похожее на прежнее №8, но сложнее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лексический анализ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Что используем в работе?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947600" y="1491840"/>
            <a:ext cx="66862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Сборник «Типовые экзаменационные варианты» под редакцией Дощинского и Цыбулько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«Учебная книга участника ОГЭ» под редакцией Цыбулько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Папка с теоретическим материалом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Picture 4" descr="ОГЭ-2025. Русский язык: типовые экзаменационные варианты: 36 вариантов (Национальное образование)"/>
          <p:cNvPicPr/>
          <p:nvPr/>
        </p:nvPicPr>
        <p:blipFill>
          <a:blip r:embed="rId1"/>
          <a:stretch/>
        </p:blipFill>
        <p:spPr>
          <a:xfrm>
            <a:off x="2189160" y="3141720"/>
            <a:ext cx="2382840" cy="3173400"/>
          </a:xfrm>
          <a:prstGeom prst="rect">
            <a:avLst/>
          </a:prstGeom>
          <a:ln w="0">
            <a:noFill/>
          </a:ln>
        </p:spPr>
      </p:pic>
      <p:sp>
        <p:nvSpPr>
          <p:cNvPr id="118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7" name="AutoShape 8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8" name="Picture 16" descr=""/>
          <p:cNvPicPr/>
          <p:nvPr/>
        </p:nvPicPr>
        <p:blipFill>
          <a:blip r:embed="rId2"/>
          <a:stretch/>
        </p:blipFill>
        <p:spPr>
          <a:xfrm>
            <a:off x="5148360" y="3146400"/>
            <a:ext cx="2382840" cy="316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я 2 и 3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334880" y="1539720"/>
            <a:ext cx="66834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Оба выполняются по маленькому тексту, помещенному в начале тестовой части. Текст состоит </a:t>
            </a:r>
            <a:r>
              <a:rPr b="1" i="1" lang="ru-RU" sz="1600" spc="-1" strike="noStrike" u="sng">
                <a:solidFill>
                  <a:srgbClr val="404040"/>
                </a:solidFill>
                <a:uFillTx/>
                <a:latin typeface="Century Gothic"/>
              </a:rPr>
              <a:t>из пяти предложений</a:t>
            </a:r>
            <a:r>
              <a:rPr b="0" lang="ru-RU" sz="16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entury Gothic"/>
              </a:rPr>
              <a:t>Задание 2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заключается в необходимости определить основы предложений и выбрать те варианты ответов, в которых указаны верные основы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entury Gothic"/>
              </a:rPr>
              <a:t>Задание 3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ключает в себя различную информацию по синтаксису этих предложений, кроме конкретного состава грамматических основ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односоставное или двусоставное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тип сказуемого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связь частей сложного предложения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виды придаточных предложений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разные виды осложнений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i="1" lang="ru-RU" sz="1600" spc="-1" strike="noStrike">
                <a:solidFill>
                  <a:srgbClr val="404040"/>
                </a:solidFill>
                <a:latin typeface="Century Gothic"/>
              </a:rPr>
              <a:t>и другие характеристики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2" descr="https://avatars.dzeninfra.ru/get-zen_doc/1720666/pub_64e839f6bc779f74a9e78645_64e83e7df6ccc15bd1145657/scale_2400"/>
          <p:cNvPicPr/>
          <p:nvPr/>
        </p:nvPicPr>
        <p:blipFill>
          <a:blip r:embed="rId1"/>
          <a:stretch/>
        </p:blipFill>
        <p:spPr>
          <a:xfrm>
            <a:off x="1979640" y="2519280"/>
            <a:ext cx="5551560" cy="4162680"/>
          </a:xfrm>
          <a:prstGeom prst="rect">
            <a:avLst/>
          </a:prstGeom>
          <a:ln w="0">
            <a:noFill/>
          </a:ln>
        </p:spPr>
      </p:pic>
      <p:pic>
        <p:nvPicPr>
          <p:cNvPr id="1192" name="Рисунок 2" descr=""/>
          <p:cNvPicPr/>
          <p:nvPr/>
        </p:nvPicPr>
        <p:blipFill>
          <a:blip r:embed="rId2"/>
          <a:stretch/>
        </p:blipFill>
        <p:spPr>
          <a:xfrm>
            <a:off x="1979640" y="44280"/>
            <a:ext cx="555156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TextBox 2"/>
          <p:cNvSpPr/>
          <p:nvPr/>
        </p:nvSpPr>
        <p:spPr>
          <a:xfrm>
            <a:off x="1200240" y="1058760"/>
            <a:ext cx="752292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читаем текст и каждое предложение: акцент на осмысление прочитанного!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Работаем с каждым предложением в таком порядке: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подчеркиваем основу (основы) предложения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водим союзы и союзные слова, соединяющие простые предложения в сложном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вляем круглые и квадратные скобки, разделяя сложные предложения на простые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м задание 2, сверяя основы с предложенными в задании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м задание 3, опираясь на разметку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утверждение связано с осложнениями простых предложений, находим и графически обозначаем осложнение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эт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то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жду нами и миром, отражая общие представления всех говорящих на нем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ем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зык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се свойства окружающей действительности, а только те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залис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обенн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кам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осителям этого языка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в языках некоторых северных народов: эскимосов, чукчей, коряков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ножество назва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ега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юд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нимают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не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ним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их жизни заметно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сто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личе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стоя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цв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чен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ртину мира и через грамматику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ю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имеющие более тридцати падежей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ужат способо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ть точное положение предмета в пространстве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Заголовок 1"/>
          <p:cNvSpPr/>
          <p:nvPr/>
        </p:nvSpPr>
        <p:spPr>
          <a:xfrm>
            <a:off x="1619280" y="260280"/>
            <a:ext cx="6684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Овал 4"/>
          <p:cNvSpPr/>
          <p:nvPr/>
        </p:nvSpPr>
        <p:spPr>
          <a:xfrm>
            <a:off x="3800520" y="3525840"/>
            <a:ext cx="700200" cy="237960"/>
          </a:xfrm>
          <a:prstGeom prst="ellipse">
            <a:avLst/>
          </a:prstGeom>
          <a:noFill/>
          <a:ln cap="rnd"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6" name="Рисунок 5" descr=""/>
          <p:cNvPicPr/>
          <p:nvPr/>
        </p:nvPicPr>
        <p:blipFill>
          <a:blip r:embed="rId1"/>
          <a:stretch/>
        </p:blipFill>
        <p:spPr>
          <a:xfrm>
            <a:off x="4500720" y="4221000"/>
            <a:ext cx="736560" cy="238320"/>
          </a:xfrm>
          <a:prstGeom prst="rect">
            <a:avLst/>
          </a:prstGeom>
          <a:ln w="0">
            <a:noFill/>
          </a:ln>
        </p:spPr>
      </p:pic>
      <p:pic>
        <p:nvPicPr>
          <p:cNvPr id="1197" name="Рисунок 6" descr=""/>
          <p:cNvPicPr/>
          <p:nvPr/>
        </p:nvPicPr>
        <p:blipFill>
          <a:blip r:embed="rId2"/>
          <a:stretch/>
        </p:blipFill>
        <p:spPr>
          <a:xfrm>
            <a:off x="7885080" y="5678640"/>
            <a:ext cx="736560" cy="288720"/>
          </a:xfrm>
          <a:prstGeom prst="rect">
            <a:avLst/>
          </a:prstGeom>
          <a:ln w="0">
            <a:noFill/>
          </a:ln>
        </p:spPr>
      </p:pic>
      <p:pic>
        <p:nvPicPr>
          <p:cNvPr id="1198" name="Рисунок 8" descr=""/>
          <p:cNvPicPr/>
          <p:nvPr/>
        </p:nvPicPr>
        <p:blipFill>
          <a:blip r:embed="rId3"/>
          <a:stretch/>
        </p:blipFill>
        <p:spPr>
          <a:xfrm>
            <a:off x="7147080" y="5967360"/>
            <a:ext cx="73800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Рисунок 5" descr=""/>
          <p:cNvPicPr/>
          <p:nvPr/>
        </p:nvPicPr>
        <p:blipFill>
          <a:blip r:embed="rId1"/>
          <a:srcRect l="8968" t="0" r="0" b="0"/>
          <a:stretch/>
        </p:blipFill>
        <p:spPr>
          <a:xfrm>
            <a:off x="4284720" y="836640"/>
            <a:ext cx="4608360" cy="590544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4. </a:t>
            </a:r>
            <a:br>
              <a:rPr sz="3600"/>
            </a:b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1339560" y="981000"/>
            <a:ext cx="230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ние 4 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очень похоже на задание 8 из ЕГЭ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 Нужно сопоставить правило и пример к нему, причем примеров больше, чем правил, и это уже не те предложения, что в первом тексте. Предложений пять, правил тр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Box 3"/>
          <p:cNvSpPr/>
          <p:nvPr/>
        </p:nvSpPr>
        <p:spPr>
          <a:xfrm>
            <a:off x="4427640" y="2127240"/>
            <a:ext cx="439236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Times New Roman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о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тои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жду нами и миром, отражая общие представления всех говорящих на нем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ем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зык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се свойства окружающей действительности, а только те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залис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обенн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кам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осителям этого язык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в языках некоторых северных народов: эскимосов, чукчей, коряков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ножество назван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ег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юд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нимают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]</a:t>
            </a:r>
            <a:r>
              <a:rPr b="1" lang="ru-RU" sz="1400" spc="-1" strike="noStrike">
                <a:solidFill>
                  <a:srgbClr val="00b0f0"/>
                </a:solidFill>
                <a:latin typeface="Times New Roman"/>
                <a:ea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не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ним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их жизни заметно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сто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личест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стоя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цв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чень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ртину мира и через грамматику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ю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и</a:t>
            </a: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Times New Roman"/>
                <a:ea typeface="Calibri"/>
              </a:rPr>
              <a:t>/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меющие более тридцати падежей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Times New Roman"/>
                <a:ea typeface="Calibri"/>
              </a:rPr>
              <a:t>/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)</a:t>
            </a: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Calibri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ужат способо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ть точное положение предмета в пространстве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3" name="Рисунок 4" descr=""/>
          <p:cNvPicPr/>
          <p:nvPr/>
        </p:nvPicPr>
        <p:blipFill>
          <a:blip r:embed="rId1"/>
          <a:srcRect l="8968" t="12197" r="46941" b="43905"/>
          <a:stretch/>
        </p:blipFill>
        <p:spPr>
          <a:xfrm>
            <a:off x="539640" y="2060640"/>
            <a:ext cx="3533760" cy="4105080"/>
          </a:xfrm>
          <a:prstGeom prst="rect">
            <a:avLst/>
          </a:prstGeom>
          <a:ln w="0">
            <a:noFill/>
          </a:ln>
        </p:spPr>
      </p:pic>
      <p:sp>
        <p:nvSpPr>
          <p:cNvPr id="1204" name="Заголовок 1"/>
          <p:cNvSpPr/>
          <p:nvPr/>
        </p:nvSpPr>
        <p:spPr>
          <a:xfrm>
            <a:off x="1306440" y="123840"/>
            <a:ext cx="6685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TextBox 9"/>
          <p:cNvSpPr/>
          <p:nvPr/>
        </p:nvSpPr>
        <p:spPr>
          <a:xfrm>
            <a:off x="1332000" y="765000"/>
            <a:ext cx="748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читаем каждое предложение: акцент на осмысление прочитанного!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Подчеркиваем основы и скобками обозначаем простые предложения, аналогично заданиям №№2 и 3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  Находим и обозначаем графически осложнения простых предложений, о которых говорится в задании №4. В этом нам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гают знаки препинания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 которых говорится в ответа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Прямая соединительная линия 10"/>
          <p:cNvSpPr/>
          <p:nvPr/>
        </p:nvSpPr>
        <p:spPr>
          <a:xfrm flipV="1">
            <a:off x="3929040" y="2421000"/>
            <a:ext cx="719280" cy="180000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Прямая соединительная линия 12"/>
          <p:cNvSpPr/>
          <p:nvPr/>
        </p:nvSpPr>
        <p:spPr>
          <a:xfrm>
            <a:off x="3851280" y="2852640"/>
            <a:ext cx="649440" cy="21607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Прямая соединительная линия 14"/>
          <p:cNvSpPr/>
          <p:nvPr/>
        </p:nvSpPr>
        <p:spPr>
          <a:xfrm flipV="1">
            <a:off x="3851280" y="4508640"/>
            <a:ext cx="576360" cy="7207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9" name="Рисунок 16" descr=""/>
          <p:cNvPicPr/>
          <p:nvPr/>
        </p:nvPicPr>
        <p:blipFill>
          <a:blip r:embed="rId2"/>
          <a:srcRect l="11113" t="85374" r="7813" b="1218"/>
          <a:stretch/>
        </p:blipFill>
        <p:spPr>
          <a:xfrm>
            <a:off x="544680" y="6051600"/>
            <a:ext cx="410364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27T10:14:53Z</dcterms:created>
  <dc:creator>User</dc:creator>
  <dc:description/>
  <dc:language>en-US</dc:language>
  <cp:lastModifiedBy>УМЦ</cp:lastModifiedBy>
  <dcterms:modified xsi:type="dcterms:W3CDTF">2025-04-09T06:30:07Z</dcterms:modified>
  <cp:revision>16</cp:revision>
  <dc:subject/>
  <dc:title>ИЗМЕНЕНИЯ в ОГЭ</dc:title>
</cp:coreProperties>
</file>