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F319-5D89-4372-8C98-A872C2545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C354-04AB-4C87-B870-FAEB94C63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4C34-0520-4C80-9B48-8F470F467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941A-F27E-4604-A5D1-B50C303E9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15CF-28E3-4CBB-947D-E3E71F412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3ACF-F2EC-4D3F-B593-03463D737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7F5F-8ACC-43E6-BFC0-0167BA33C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1044-47E0-4A6A-8109-E6E231C16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53C6-92BB-44C8-A253-7D2B1A134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9816-7D12-43CF-B7C3-BAC2EE774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C382-37AB-425A-B3D5-BE2A88292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E29B-304D-4200-919A-DFA956D78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00800"/>
            <a:ext cx="25848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ACB3-B8AA-4533-8191-8B0CA2F31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41" name="Picture 2" descr="Picture 2"/>
          <p:cNvPicPr/>
          <p:nvPr/>
        </p:nvPicPr>
        <p:blipFill>
          <a:blip r:embed="rId1"/>
          <a:stretch/>
        </p:blipFill>
        <p:spPr>
          <a:xfrm>
            <a:off x="-133200" y="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3510000" y="156528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работы  обучающихся как один из видов домашнего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4483080" y="3786120"/>
            <a:ext cx="68706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окарева Татьяна Владимировна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, молодой специалист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 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АОУ Домодедовского лицея №3 им. Героя Советского Союза Ю.П.Максим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3840" y="331560"/>
            <a:ext cx="9659880" cy="36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8880" y="5184720"/>
            <a:ext cx="4383360" cy="7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«Как не стать жертвой мошенника? История, основанная на реальных события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а основе «Мертвых душ» Гого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8"/>
          <p:cNvSpPr/>
          <p:nvPr/>
        </p:nvSpPr>
        <p:spPr>
          <a:xfrm>
            <a:off x="7704000" y="5460840"/>
            <a:ext cx="309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19080" y="2147760"/>
            <a:ext cx="49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дание заключается в пересказе или написании отдельного фрагмента, целого произведения или представлении правила русского языка в стиле официального документа, статьи, научного сообщения или шок-контента – моделирование чрезвычайной ситуации, которая может вызвать «шок» у очевидц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280200" y="1730520"/>
            <a:ext cx="534204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78800" y="13780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Шок-конт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0720" y="77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40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итерии оценки творческих работ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05000" y="1385640"/>
            <a:ext cx="5783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Важно помнить, что оценка творческих работ должна отличаться от оценки традиционных домашних заданий. Основное внимание следует уделя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Picture 6"/>
          <p:cNvPicPr/>
          <p:nvPr/>
        </p:nvPicPr>
        <p:blipFill>
          <a:blip r:embed="rId2"/>
          <a:stretch/>
        </p:blipFill>
        <p:spPr>
          <a:xfrm>
            <a:off x="7159680" y="4900680"/>
            <a:ext cx="159228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Picture 10"/>
          <p:cNvPicPr/>
          <p:nvPr/>
        </p:nvPicPr>
        <p:blipFill>
          <a:blip r:embed="rId3"/>
          <a:stretch/>
        </p:blipFill>
        <p:spPr>
          <a:xfrm>
            <a:off x="6558120" y="1165320"/>
            <a:ext cx="4673520" cy="269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icture 14"/>
          <p:cNvPicPr/>
          <p:nvPr/>
        </p:nvPicPr>
        <p:blipFill>
          <a:blip r:embed="rId4"/>
          <a:stretch/>
        </p:blipFill>
        <p:spPr>
          <a:xfrm>
            <a:off x="9290160" y="3624120"/>
            <a:ext cx="2421000" cy="2552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428920" y="2905200"/>
            <a:ext cx="2315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774680" y="3935520"/>
            <a:ext cx="2707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5"/>
          <a:stretch/>
        </p:blipFill>
        <p:spPr>
          <a:xfrm>
            <a:off x="1978200" y="4756320"/>
            <a:ext cx="380988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973080" y="3732120"/>
            <a:ext cx="2606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одерж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5454720" y="2905200"/>
            <a:ext cx="196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6"/>
          <a:stretch/>
        </p:blipFill>
        <p:spPr>
          <a:xfrm>
            <a:off x="5146560" y="290520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4417920" y="393552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8"/>
          <a:stretch/>
        </p:blipFill>
        <p:spPr>
          <a:xfrm>
            <a:off x="2165400" y="291132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9"/>
          <a:stretch/>
        </p:blipFill>
        <p:spPr>
          <a:xfrm>
            <a:off x="620640" y="374328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10"/>
          <a:stretch/>
        </p:blipFill>
        <p:spPr>
          <a:xfrm>
            <a:off x="1749600" y="4900680"/>
            <a:ext cx="3412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Picture 2"/>
          <p:cNvPicPr/>
          <p:nvPr/>
        </p:nvPicPr>
        <p:blipFill>
          <a:blip r:embed="rId1"/>
          <a:stretch/>
        </p:blipFill>
        <p:spPr>
          <a:xfrm>
            <a:off x="0" y="-13320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Picture 16"/>
          <p:cNvGrpSpPr/>
          <p:nvPr/>
        </p:nvGrpSpPr>
        <p:grpSpPr>
          <a:xfrm>
            <a:off x="7562880" y="860400"/>
            <a:ext cx="4017960" cy="2506680"/>
            <a:chOff x="7562880" y="860400"/>
            <a:chExt cx="4017960" cy="2506680"/>
          </a:xfrm>
        </p:grpSpPr>
        <p:sp>
          <p:nvSpPr>
            <p:cNvPr id="145" name="Прямоугольник"/>
            <p:cNvSpPr/>
            <p:nvPr/>
          </p:nvSpPr>
          <p:spPr>
            <a:xfrm>
              <a:off x="7562880" y="860400"/>
              <a:ext cx="4017960" cy="25066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image21.jpeg" descr="image21.jpeg"/>
            <p:cNvPicPr/>
            <p:nvPr/>
          </p:nvPicPr>
          <p:blipFill>
            <a:blip r:embed="rId3"/>
            <a:srcRect l="6114" t="17549" r="8322" b="0"/>
            <a:stretch/>
          </p:blipFill>
          <p:spPr>
            <a:xfrm>
              <a:off x="7562880" y="860400"/>
              <a:ext cx="4017960" cy="25066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80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7" name="Рисунок 14" descr="Рисунок 14"/>
          <p:cNvPicPr/>
          <p:nvPr/>
        </p:nvPicPr>
        <p:blipFill>
          <a:blip r:embed="rId4"/>
          <a:stretch/>
        </p:blipFill>
        <p:spPr>
          <a:xfrm>
            <a:off x="3762360" y="2949480"/>
            <a:ext cx="2631960" cy="2833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5703840" y="4133880"/>
            <a:ext cx="36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6" descr="Рисунок 16"/>
          <p:cNvPicPr/>
          <p:nvPr/>
        </p:nvPicPr>
        <p:blipFill>
          <a:blip r:embed="rId5"/>
          <a:stretch/>
        </p:blipFill>
        <p:spPr>
          <a:xfrm>
            <a:off x="8321760" y="41590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Рисунок 17"/>
          <p:cNvPicPr/>
          <p:nvPr/>
        </p:nvPicPr>
        <p:blipFill>
          <a:blip r:embed="rId6"/>
          <a:stretch/>
        </p:blipFill>
        <p:spPr>
          <a:xfrm>
            <a:off x="8321760" y="485460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Рисунок 18"/>
          <p:cNvPicPr/>
          <p:nvPr/>
        </p:nvPicPr>
        <p:blipFill>
          <a:blip r:embed="rId7"/>
          <a:stretch/>
        </p:blipFill>
        <p:spPr>
          <a:xfrm>
            <a:off x="8340840" y="555624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9"/>
          <p:cNvSpPr/>
          <p:nvPr/>
        </p:nvSpPr>
        <p:spPr>
          <a:xfrm>
            <a:off x="8970840" y="4159080"/>
            <a:ext cx="31752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(496)793-50-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odlicei3.edumsko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lycei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5440" y="30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2055600"/>
            <a:ext cx="4122720" cy="32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Способность понимать  прекрасное  умом и сердцем наиболее успешно развивается тогда, когда ребёнок активно воссоздаёт художественные образы в своём воображении при восприятии произведений искусств, одновременно участвуя в доступных ему формах художественной деятельности»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        </a:t>
            </a: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А.В. Запороже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icture 6"/>
          <p:cNvPicPr/>
          <p:nvPr/>
        </p:nvPicPr>
        <p:blipFill>
          <a:blip r:embed="rId2"/>
          <a:stretch/>
        </p:blipFill>
        <p:spPr>
          <a:xfrm>
            <a:off x="7102440" y="4003560"/>
            <a:ext cx="1882800" cy="188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10"/>
          <p:cNvPicPr/>
          <p:nvPr/>
        </p:nvPicPr>
        <p:blipFill>
          <a:blip r:embed="rId3"/>
          <a:stretch/>
        </p:blipFill>
        <p:spPr>
          <a:xfrm>
            <a:off x="5394240" y="1217520"/>
            <a:ext cx="4673520" cy="26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icture 14"/>
          <p:cNvPicPr/>
          <p:nvPr/>
        </p:nvPicPr>
        <p:blipFill>
          <a:blip r:embed="rId4"/>
          <a:stretch/>
        </p:blipFill>
        <p:spPr>
          <a:xfrm>
            <a:off x="9466200" y="3862440"/>
            <a:ext cx="2421000" cy="25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icture 2"/>
          <p:cNvPicPr/>
          <p:nvPr/>
        </p:nvPicPr>
        <p:blipFill>
          <a:blip r:embed="rId5"/>
          <a:stretch/>
        </p:blipFill>
        <p:spPr>
          <a:xfrm>
            <a:off x="9658440" y="160164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5360" y="-6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9400" y="1856880"/>
            <a:ext cx="57834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Традиционные домашние задания, как правило, направлены на закрепление изученного материала, проверку усвоения знаний и отработку навыков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Решение задач по образцу, переписывание текстов, ответы на вопросы — всё это необходимо, но недостаточно для полноценного развития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Picture 2"/>
          <p:cNvPicPr/>
          <p:nvPr/>
        </p:nvPicPr>
        <p:blipFill>
          <a:blip r:embed="rId2"/>
          <a:stretch/>
        </p:blipFill>
        <p:spPr>
          <a:xfrm>
            <a:off x="7964640" y="2124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-104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3482640" y="121140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7160" y="2529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вышают мотивацию к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19080" y="439092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креативное мыш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129160" y="29178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Формируют навыки самовыра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664720" y="580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могают раскрыть индивидуальные таланты и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6000120" y="454644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пособствуют развитию крит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2079720" y="3481560"/>
            <a:ext cx="6453000" cy="44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37440" y="2190600"/>
            <a:ext cx="42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навыки самоорганизации и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3"/>
          <a:stretch/>
        </p:blipFill>
        <p:spPr>
          <a:xfrm>
            <a:off x="9721800" y="1195560"/>
            <a:ext cx="1527120" cy="1528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4"/>
          <a:stretch/>
        </p:blipFill>
        <p:spPr>
          <a:xfrm>
            <a:off x="2395440" y="5886360"/>
            <a:ext cx="343080" cy="2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"/>
          <p:cNvPicPr/>
          <p:nvPr/>
        </p:nvPicPr>
        <p:blipFill>
          <a:blip r:embed="rId5"/>
          <a:stretch/>
        </p:blipFill>
        <p:spPr>
          <a:xfrm>
            <a:off x="5729400" y="462276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" descr=""/>
          <p:cNvPicPr/>
          <p:nvPr/>
        </p:nvPicPr>
        <p:blipFill>
          <a:blip r:embed="rId6"/>
          <a:stretch/>
        </p:blipFill>
        <p:spPr>
          <a:xfrm>
            <a:off x="1811160" y="3548160"/>
            <a:ext cx="343080" cy="234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"/>
          <p:cNvPicPr/>
          <p:nvPr/>
        </p:nvPicPr>
        <p:blipFill>
          <a:blip r:embed="rId7"/>
          <a:stretch/>
        </p:blipFill>
        <p:spPr>
          <a:xfrm>
            <a:off x="571680" y="461808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8"/>
          <a:stretch/>
        </p:blipFill>
        <p:spPr>
          <a:xfrm>
            <a:off x="7854840" y="2995560"/>
            <a:ext cx="3477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9"/>
          <a:stretch/>
        </p:blipFill>
        <p:spPr>
          <a:xfrm>
            <a:off x="6075360" y="231156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10"/>
          <a:stretch/>
        </p:blipFill>
        <p:spPr>
          <a:xfrm>
            <a:off x="849240" y="2614680"/>
            <a:ext cx="347760" cy="1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-87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676520" y="1498680"/>
            <a:ext cx="36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ложности и пути их преодо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1520" y="2817720"/>
            <a:ext cx="42847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хватка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достаток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пасения учителей по поводу объективнос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противление уче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Picture background"/>
          <p:cNvPicPr/>
          <p:nvPr/>
        </p:nvPicPr>
        <p:blipFill>
          <a:blip r:embed="rId2"/>
          <a:stretch/>
        </p:blipFill>
        <p:spPr>
          <a:xfrm>
            <a:off x="5940360" y="2602080"/>
            <a:ext cx="436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56440" y="5267160"/>
            <a:ext cx="2139840" cy="8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87" name="Объект 8"/>
          <p:cNvSpPr/>
          <p:nvPr/>
        </p:nvSpPr>
        <p:spPr>
          <a:xfrm>
            <a:off x="663480" y="1720800"/>
            <a:ext cx="5089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76520" y="-93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72440" y="14065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оль учителя в стимулировании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430960" y="2316240"/>
            <a:ext cx="609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вать благоприятную атмосферу для творчеств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оддерживать учеников, поощрять их идеи, не критиковать за ош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оставлять возможность выбор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давать ученикам возможность выбирать темы, формы и методы выполнения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ыть вдохновителем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редлагать интересные идеи, показывать примеры хороших работ, вдохновлять учеников на творче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ценивать не только результат, но и процесс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обращать внимание на то, как ученик работал над заданием, как он искал решения, какие трудности он преодол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779400" y="2438280"/>
            <a:ext cx="435924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090080" y="664812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8440" y="-12528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</a:t>
            </a: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1611360" y="144936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ние профиля литературного героя или писателя в социальных се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Picture background"/>
          <p:cNvPicPr/>
          <p:nvPr/>
        </p:nvPicPr>
        <p:blipFill>
          <a:blip r:embed="rId2"/>
          <a:stretch/>
        </p:blipFill>
        <p:spPr>
          <a:xfrm>
            <a:off x="3352680" y="2833560"/>
            <a:ext cx="74851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63320" y="15876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исьмо литературному гер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7128000" y="1476360"/>
            <a:ext cx="4155840" cy="47768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47840" y="2433600"/>
            <a:ext cx="50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Данный прием - один из видов творческой работы, который провожу после изучения произведения. Ученики сами определяют, кому из героев они пишут письмо. Данный прием позволяет объединить работу по развитию речи с развитием творческого мышления учащихся. Ученик должен суметь выразить свое отношение к герою через его поступки, характер, поведение, дать положительную или отрицательную характеристику персонаж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1780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69880" y="1609560"/>
            <a:ext cx="4910400" cy="435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Литература в роли рекламного конт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804960" y="3038400"/>
            <a:ext cx="609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Ученикам предлагается разработать рекламу для литературного произведения с учетом его особенностей и требований к рекламному продукту в настоящее время. Данное задание может включать в себя вариативный набор элементов и форм выполнения. Оно может быть выполнено в форме буклета, презентации, афиши, статьи в интерн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7230960" y="1293840"/>
            <a:ext cx="382104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МЦ</cp:lastModifiedBy>
  <dcterms:modified xsi:type="dcterms:W3CDTF">2025-03-25T12:16:14Z</dcterms:modified>
  <cp:revision>16</cp:revision>
  <dc:subject/>
  <dc:title>Презентация PowerPoint</dc:title>
</cp:coreProperties>
</file>