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8F35-04F2-49A7-B0AC-DEF552328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FDA5-9DA7-4202-BC43-A5A787824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D6E4-B318-43FD-84FC-7511ABAA6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35BD-47AB-468D-A7E7-7A8EAF9B8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0851-8B22-47F7-ACF4-F89C5966B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FBB8-0BB0-4185-A310-8B404559D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54F9-0185-4AD0-9020-36FA5F794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B97C-9A60-4E11-B45E-86FA96650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BB99-10D2-4196-AC9A-CE40C6826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398F-37CF-4690-92E3-76539D77E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5F30-E1DE-4FFE-926F-EFC5DC053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CB8F-4177-4927-8626-542CFCE1C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095200" y="6400800"/>
            <a:ext cx="25848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4E79-EF76-4E10-9802-2AD27AFF7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41" name="Picture 2" descr="Picture 2"/>
          <p:cNvPicPr/>
          <p:nvPr/>
        </p:nvPicPr>
        <p:blipFill>
          <a:blip r:embed="rId1"/>
          <a:stretch/>
        </p:blipFill>
        <p:spPr>
          <a:xfrm>
            <a:off x="-133200" y="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3510000" y="1565280"/>
            <a:ext cx="867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работы  обучающихся как один из видов домашнего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4483080" y="3786120"/>
            <a:ext cx="687060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окарева Татьяна Владимировна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, молодой специалист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 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МАОУ Домодедовского лицея №3 им. Героя Советского Союза Ю.П.Максим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3840" y="331560"/>
            <a:ext cx="9659880" cy="36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38880" y="5184720"/>
            <a:ext cx="4383360" cy="7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«Как не стать жертвой мошенника? История, основанная на реальных событиях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а основе «Мертвых душ» Гогол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бъект 8"/>
          <p:cNvSpPr/>
          <p:nvPr/>
        </p:nvSpPr>
        <p:spPr>
          <a:xfrm>
            <a:off x="7704000" y="5460840"/>
            <a:ext cx="309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919080" y="2147760"/>
            <a:ext cx="49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дание заключается в пересказе или написании отдельного фрагмента, целого произведения или представлении правила русского языка в стиле официального документа, статьи, научного сообщения или шок-контента – моделирование чрезвычайной ситуации, которая может вызвать «шок» у очевидц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6280200" y="1730520"/>
            <a:ext cx="534204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378800" y="13780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Шок-конт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20720" y="77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40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итерии оценки творческих работ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05000" y="1385640"/>
            <a:ext cx="57830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Важно помнить, что оценка творческих работ должна отличаться от оценки традиционных домашних заданий. Основное внимание следует уделя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Picture 6"/>
          <p:cNvPicPr/>
          <p:nvPr/>
        </p:nvPicPr>
        <p:blipFill>
          <a:blip r:embed="rId2"/>
          <a:stretch/>
        </p:blipFill>
        <p:spPr>
          <a:xfrm>
            <a:off x="7159680" y="4900680"/>
            <a:ext cx="159228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Picture 10"/>
          <p:cNvPicPr/>
          <p:nvPr/>
        </p:nvPicPr>
        <p:blipFill>
          <a:blip r:embed="rId3"/>
          <a:stretch/>
        </p:blipFill>
        <p:spPr>
          <a:xfrm>
            <a:off x="6558120" y="1165320"/>
            <a:ext cx="4673520" cy="269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Picture 14"/>
          <p:cNvPicPr/>
          <p:nvPr/>
        </p:nvPicPr>
        <p:blipFill>
          <a:blip r:embed="rId4"/>
          <a:stretch/>
        </p:blipFill>
        <p:spPr>
          <a:xfrm>
            <a:off x="9290160" y="3624120"/>
            <a:ext cx="2421000" cy="2552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2428920" y="2905200"/>
            <a:ext cx="2315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Оригин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774680" y="3935520"/>
            <a:ext cx="2707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5"/>
          <a:stretch/>
        </p:blipFill>
        <p:spPr>
          <a:xfrm>
            <a:off x="1978200" y="4756320"/>
            <a:ext cx="3809880" cy="639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973080" y="3732120"/>
            <a:ext cx="2606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одерж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5454720" y="2905200"/>
            <a:ext cx="196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6"/>
          <a:stretch/>
        </p:blipFill>
        <p:spPr>
          <a:xfrm>
            <a:off x="5146560" y="290520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4417920" y="393552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8"/>
          <a:stretch/>
        </p:blipFill>
        <p:spPr>
          <a:xfrm>
            <a:off x="2165400" y="291132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9"/>
          <a:stretch/>
        </p:blipFill>
        <p:spPr>
          <a:xfrm>
            <a:off x="620640" y="374328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10"/>
          <a:stretch/>
        </p:blipFill>
        <p:spPr>
          <a:xfrm>
            <a:off x="1749600" y="4900680"/>
            <a:ext cx="34128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" descr="Picture 2"/>
          <p:cNvPicPr/>
          <p:nvPr/>
        </p:nvPicPr>
        <p:blipFill>
          <a:blip r:embed="rId1"/>
          <a:stretch/>
        </p:blipFill>
        <p:spPr>
          <a:xfrm>
            <a:off x="0" y="-13320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Picture 16"/>
          <p:cNvGrpSpPr/>
          <p:nvPr/>
        </p:nvGrpSpPr>
        <p:grpSpPr>
          <a:xfrm>
            <a:off x="7562880" y="860400"/>
            <a:ext cx="4017960" cy="2506680"/>
            <a:chOff x="7562880" y="860400"/>
            <a:chExt cx="4017960" cy="2506680"/>
          </a:xfrm>
        </p:grpSpPr>
        <p:sp>
          <p:nvSpPr>
            <p:cNvPr id="145" name="Прямоугольник"/>
            <p:cNvSpPr/>
            <p:nvPr/>
          </p:nvSpPr>
          <p:spPr>
            <a:xfrm>
              <a:off x="7562880" y="860400"/>
              <a:ext cx="4017960" cy="25066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image21.jpeg" descr="image21.jpeg"/>
            <p:cNvPicPr/>
            <p:nvPr/>
          </p:nvPicPr>
          <p:blipFill>
            <a:blip r:embed="rId3"/>
            <a:srcRect l="6114" t="17549" r="8322" b="0"/>
            <a:stretch/>
          </p:blipFill>
          <p:spPr>
            <a:xfrm>
              <a:off x="7562880" y="860400"/>
              <a:ext cx="4017960" cy="25066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  <a:effectLst>
              <a:outerShdw dist="18000" dir="54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47" name="Рисунок 14" descr="Рисунок 14"/>
          <p:cNvPicPr/>
          <p:nvPr/>
        </p:nvPicPr>
        <p:blipFill>
          <a:blip r:embed="rId4"/>
          <a:stretch/>
        </p:blipFill>
        <p:spPr>
          <a:xfrm>
            <a:off x="3762360" y="2949480"/>
            <a:ext cx="2631960" cy="2833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5"/>
          <p:cNvSpPr/>
          <p:nvPr/>
        </p:nvSpPr>
        <p:spPr>
          <a:xfrm>
            <a:off x="5703840" y="4133880"/>
            <a:ext cx="36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6" descr="Рисунок 16"/>
          <p:cNvPicPr/>
          <p:nvPr/>
        </p:nvPicPr>
        <p:blipFill>
          <a:blip r:embed="rId5"/>
          <a:stretch/>
        </p:blipFill>
        <p:spPr>
          <a:xfrm>
            <a:off x="8321760" y="4159080"/>
            <a:ext cx="476280" cy="563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Рисунок 17"/>
          <p:cNvPicPr/>
          <p:nvPr/>
        </p:nvPicPr>
        <p:blipFill>
          <a:blip r:embed="rId6"/>
          <a:stretch/>
        </p:blipFill>
        <p:spPr>
          <a:xfrm>
            <a:off x="8321760" y="4854600"/>
            <a:ext cx="476280" cy="582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Рисунок 18"/>
          <p:cNvPicPr/>
          <p:nvPr/>
        </p:nvPicPr>
        <p:blipFill>
          <a:blip r:embed="rId7"/>
          <a:stretch/>
        </p:blipFill>
        <p:spPr>
          <a:xfrm>
            <a:off x="8340840" y="5556240"/>
            <a:ext cx="457200" cy="455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9"/>
          <p:cNvSpPr/>
          <p:nvPr/>
        </p:nvSpPr>
        <p:spPr>
          <a:xfrm>
            <a:off x="8970840" y="4159080"/>
            <a:ext cx="31752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(496)793-50-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odlicei3.edumsko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k.com/lycei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5440" y="30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1440" y="2055600"/>
            <a:ext cx="4122720" cy="32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Способность понимать  прекрасное  умом и сердцем наиболее успешно развивается тогда, когда ребёнок активно воссоздаёт художественные образы в своём воображении при восприятии произведений искусств, одновременно участвуя в доступных ему формах художественной деятельности»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        </a:t>
            </a: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А.В. Запороже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Picture 6"/>
          <p:cNvPicPr/>
          <p:nvPr/>
        </p:nvPicPr>
        <p:blipFill>
          <a:blip r:embed="rId2"/>
          <a:stretch/>
        </p:blipFill>
        <p:spPr>
          <a:xfrm>
            <a:off x="7102440" y="4003560"/>
            <a:ext cx="1882800" cy="188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icture 10"/>
          <p:cNvPicPr/>
          <p:nvPr/>
        </p:nvPicPr>
        <p:blipFill>
          <a:blip r:embed="rId3"/>
          <a:stretch/>
        </p:blipFill>
        <p:spPr>
          <a:xfrm>
            <a:off x="5394240" y="1217520"/>
            <a:ext cx="4673520" cy="269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Picture 14"/>
          <p:cNvPicPr/>
          <p:nvPr/>
        </p:nvPicPr>
        <p:blipFill>
          <a:blip r:embed="rId4"/>
          <a:stretch/>
        </p:blipFill>
        <p:spPr>
          <a:xfrm>
            <a:off x="9466200" y="3862440"/>
            <a:ext cx="2421000" cy="255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Picture 2"/>
          <p:cNvPicPr/>
          <p:nvPr/>
        </p:nvPicPr>
        <p:blipFill>
          <a:blip r:embed="rId5"/>
          <a:stretch/>
        </p:blipFill>
        <p:spPr>
          <a:xfrm>
            <a:off x="9658440" y="1601640"/>
            <a:ext cx="169524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5360" y="-69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9400" y="1856880"/>
            <a:ext cx="57834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Традиционные домашние задания, как правило, направлены на закрепление изученного материала, проверку усвоения знаний и отработку навыков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Решение задач по образцу, переписывание текстов, ответы на вопросы — всё это необходимо, но недостаточно для полноценного развития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Picture 2"/>
          <p:cNvPicPr/>
          <p:nvPr/>
        </p:nvPicPr>
        <p:blipFill>
          <a:blip r:embed="rId2"/>
          <a:stretch/>
        </p:blipFill>
        <p:spPr>
          <a:xfrm>
            <a:off x="7964640" y="2124000"/>
            <a:ext cx="3457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-104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3482640" y="1211400"/>
            <a:ext cx="55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домашн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7160" y="25290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вышают мотивацию к обуч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919080" y="439092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креативное мыш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8129160" y="29178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Формируют навыки самовыра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664720" y="5803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могают раскрыть индивидуальные таланты и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6000120" y="454644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пособствуют развитию крит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2079720" y="3481560"/>
            <a:ext cx="6453000" cy="44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6337440" y="2190600"/>
            <a:ext cx="42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навыки самоорганизации и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"/>
          <p:cNvPicPr/>
          <p:nvPr/>
        </p:nvPicPr>
        <p:blipFill>
          <a:blip r:embed="rId3"/>
          <a:stretch/>
        </p:blipFill>
        <p:spPr>
          <a:xfrm>
            <a:off x="9721800" y="1195560"/>
            <a:ext cx="1527120" cy="1528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"/>
          <p:cNvPicPr/>
          <p:nvPr/>
        </p:nvPicPr>
        <p:blipFill>
          <a:blip r:embed="rId4"/>
          <a:stretch/>
        </p:blipFill>
        <p:spPr>
          <a:xfrm>
            <a:off x="2395440" y="5886360"/>
            <a:ext cx="343080" cy="236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"/>
          <p:cNvPicPr/>
          <p:nvPr/>
        </p:nvPicPr>
        <p:blipFill>
          <a:blip r:embed="rId5"/>
          <a:stretch/>
        </p:blipFill>
        <p:spPr>
          <a:xfrm>
            <a:off x="5729400" y="462276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0" descr=""/>
          <p:cNvPicPr/>
          <p:nvPr/>
        </p:nvPicPr>
        <p:blipFill>
          <a:blip r:embed="rId6"/>
          <a:stretch/>
        </p:blipFill>
        <p:spPr>
          <a:xfrm>
            <a:off x="1811160" y="3548160"/>
            <a:ext cx="343080" cy="234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3" descr=""/>
          <p:cNvPicPr/>
          <p:nvPr/>
        </p:nvPicPr>
        <p:blipFill>
          <a:blip r:embed="rId7"/>
          <a:stretch/>
        </p:blipFill>
        <p:spPr>
          <a:xfrm>
            <a:off x="571680" y="461808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4" descr=""/>
          <p:cNvPicPr/>
          <p:nvPr/>
        </p:nvPicPr>
        <p:blipFill>
          <a:blip r:embed="rId8"/>
          <a:stretch/>
        </p:blipFill>
        <p:spPr>
          <a:xfrm>
            <a:off x="7854840" y="2995560"/>
            <a:ext cx="347760" cy="231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5" descr=""/>
          <p:cNvPicPr/>
          <p:nvPr/>
        </p:nvPicPr>
        <p:blipFill>
          <a:blip r:embed="rId9"/>
          <a:stretch/>
        </p:blipFill>
        <p:spPr>
          <a:xfrm>
            <a:off x="6075360" y="2311560"/>
            <a:ext cx="347760" cy="231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6" descr=""/>
          <p:cNvPicPr/>
          <p:nvPr/>
        </p:nvPicPr>
        <p:blipFill>
          <a:blip r:embed="rId10"/>
          <a:stretch/>
        </p:blipFill>
        <p:spPr>
          <a:xfrm>
            <a:off x="849240" y="2614680"/>
            <a:ext cx="347760" cy="1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-878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676520" y="1498680"/>
            <a:ext cx="36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ложности и пути их преодо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541520" y="2817720"/>
            <a:ext cx="42847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хватка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достаток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пасения учителей по поводу объективнос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противление уче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Picture background"/>
          <p:cNvPicPr/>
          <p:nvPr/>
        </p:nvPicPr>
        <p:blipFill>
          <a:blip r:embed="rId2"/>
          <a:stretch/>
        </p:blipFill>
        <p:spPr>
          <a:xfrm>
            <a:off x="5940360" y="2602080"/>
            <a:ext cx="43642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256440" y="5267160"/>
            <a:ext cx="2139840" cy="8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87" name="Объект 8"/>
          <p:cNvSpPr/>
          <p:nvPr/>
        </p:nvSpPr>
        <p:spPr>
          <a:xfrm>
            <a:off x="663480" y="1720800"/>
            <a:ext cx="5089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676520" y="-93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872440" y="14065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оль учителя в стимулировании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430960" y="2316240"/>
            <a:ext cx="60958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вать благоприятную атмосферу для творчеств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оддерживать учеников, поощрять их идеи, не критиковать за ошиб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едоставлять возможность выбор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давать ученикам возможность выбирать темы, формы и методы выполнения зад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ыть вдохновителем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редлагать интересные идеи, показывать примеры хороших работ, вдохновлять учеников на творче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ценивать не только результат, но и процесс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обращать внимание на то, как ученик работал над заданием, как он искал решения, какие трудности он преодол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779400" y="2438280"/>
            <a:ext cx="435924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090080" y="664812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38440" y="-125280"/>
            <a:ext cx="10515600" cy="132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</a:t>
            </a: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1611360" y="144936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ние профиля литературного героя или писателя в социальных се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Picture background"/>
          <p:cNvPicPr/>
          <p:nvPr/>
        </p:nvPicPr>
        <p:blipFill>
          <a:blip r:embed="rId2"/>
          <a:stretch/>
        </p:blipFill>
        <p:spPr>
          <a:xfrm>
            <a:off x="3352680" y="2833560"/>
            <a:ext cx="74851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1363320" y="158760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исьмо литературному гер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7128000" y="1476360"/>
            <a:ext cx="4155840" cy="47768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47840" y="2433600"/>
            <a:ext cx="50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Данный прием - один из видов творческой работы, который провожу после изучения произведения. Ученики сами определяют, кому из героев они пишут письмо. Данный прием позволяет объединить работу по развитию речи с развитием творческого мышления учащихся. Ученик должен суметь выразить свое отношение к герою через его поступки, характер, поведение, дать положительную или отрицательную характеристику персонаж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1780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69880" y="1609560"/>
            <a:ext cx="4910400" cy="435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Литература в роли рекламного конт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804960" y="3038400"/>
            <a:ext cx="609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Ученикам предлагается разработать рекламу для литературного произведения с учетом его особенностей и требований к рекламному продукту в настоящее время. Данное задание может включать в себя вариативный набор элементов и форм выполнения. Оно может быть выполнено в форме буклета, презентации, афиши, статьи в интерн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7230960" y="1293840"/>
            <a:ext cx="3821040" cy="53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УМЦ</cp:lastModifiedBy>
  <dcterms:modified xsi:type="dcterms:W3CDTF">2025-03-25T12:16:14Z</dcterms:modified>
  <cp:revision>16</cp:revision>
  <dc:subject/>
  <dc:title>Презентация PowerPoint</dc:title>
</cp:coreProperties>
</file>