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8E5-8F16-4895-8D6D-7CB7669A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B5A-6087-4674-8C6D-B8D075A6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169-F666-4E73-98E5-A9745C87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731-7E63-4C43-B263-EE530D2C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6B1-4E67-41AC-8D95-980C5872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42D-E13B-4C45-ACE8-BB6BC5C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6A1-FD5B-48FF-8F74-09494780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A1F-039A-4BD0-8EB7-0EFF12A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F10-8C95-4E00-8814-8C4289BA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AF1-9430-434D-AC3B-801ADD2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DDF-280D-4A82-8968-1CC25F8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01F-7AAE-4D72-8083-DBCD7CF0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67676"/>
                </a:solidFill>
                <a:latin typeface="Apto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D737-F415-4788-BB7C-46CBA1AAF433}" type="slidenum">
              <a:rPr b="0" lang="ru-RU" sz="1200" spc="-1" strike="noStrike">
                <a:solidFill>
                  <a:srgbClr val="767676"/>
                </a:solidFill>
                <a:latin typeface="Apt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-49320"/>
            <a:ext cx="121762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683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2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809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3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7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3T17:13:20Z</dcterms:created>
  <dc:creator>даша сучкова</dc:creator>
  <dc:description/>
  <dc:language>en-US</dc:language>
  <cp:lastModifiedBy>УМЦ</cp:lastModifiedBy>
  <dcterms:modified xsi:type="dcterms:W3CDTF">2025-03-25T12:17:03Z</dcterms:modified>
  <cp:revision>1</cp:revision>
  <dc:subject/>
  <dc:title>Презентация PowerPoint</dc:title>
</cp:coreProperties>
</file>