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1047-7C0D-461C-A8F7-0C4658DCCF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15B6-7FDD-4A31-AEEF-05F1CC4C3E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ECC9-4CBC-4BD6-B36A-95BCEF4F77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24CA-58AA-441C-865E-8DA3374F6A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6C88-85F5-4FA4-BE85-E915E5C70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6EFC-EA75-4DB3-BEAB-B99C06FF0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18D1-27EA-4246-A355-42441A0578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D2A1-45B1-408C-A5C2-7D12E8CC0C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6C6B-46F0-4670-9F50-04BC416A4B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F913-E2D7-4035-93AD-46EE2AE64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250B-CFDD-46B7-BB68-A430594426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2890-35A9-4C54-8C83-603466230A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3A17-A957-4428-82A5-BD9B3226E1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3DBF-1B9C-42F1-84B9-9A1F7E38ED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D5A0-17B3-4FC4-B77B-0E8C296361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B894-7BA2-4119-B48C-7846B86EED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89FB-80C3-47CE-9DC5-D541FB4BD3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D19C-53FA-40D9-BCF4-0E3212B39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D62C-F9F3-45F3-8A04-8B542AC862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3782-EE69-4EED-997D-6BCD0776A3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705-8831-4782-BF6F-6801409F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B84-57AA-486B-AF88-7CC4CCF6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37BA0-E0DB-43E1-A93A-F3A5B032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B129C-3F5F-47C0-8660-B25AB846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B1B02-75DA-4361-8065-7E8A8730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344D3-6BFE-4A63-A0F1-0E9F51FA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E503A-DA15-487C-A194-0143078A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2CB59-8760-4D5F-B5B3-1A9C5A5E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D293E-DA4C-4571-A93A-7F548A3B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D46F3-C53E-42FB-9E1C-CE262D6A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69355-B56C-42A7-B772-8EB09ED6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7FE5E-358E-4169-AC1F-F647C217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703-1A5C-4E2D-A167-44FA1F86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DB7D3-9FF7-466A-A67F-7A8E9F47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9BFF3-082C-4839-851E-0CC763D3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4C79F-1DBB-4FE7-A9AF-FF73F56A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7E545-C8ED-4071-9831-5142BE6E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AA752-C4F8-4474-BD4E-9EA39BA0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5C006-EDD4-48BD-BA69-D8963725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2DFD6-DBF5-4B30-9904-361B7F15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9CE5E-5056-4D5D-859A-8C3BF46F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47571-88C3-4A21-B396-06462DEA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3D9E5-878F-4228-A58C-0D45E196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55E-0D39-41DD-BEF7-B88E450B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06640-9CC3-46F7-AEDC-9BD9F563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6309A-0154-4F10-A91E-6A4E0DA5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31E6F-674D-4394-BF13-FFA02F80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D48FF-1D88-4848-89ED-7FAE3C82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0CEDF-016F-4C35-8C69-82D83D30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CE331-93FA-4A2E-9C9A-895C1590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70802-C56D-4B6C-8C76-BF82F487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F2804-5A11-4635-A8D6-45C78D59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E345B-8A2E-4FF9-9C55-C4A3D568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08641-2A5F-4B64-B2A2-9C982121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9FDC-E4DB-4311-88A9-357D90FB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72DC9-828F-4A4C-8984-BBE9406F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CF62A-8DE6-44E0-950B-23CCA54D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3DA73-04B8-41E1-9158-46D1D0C7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10650-AE8C-4C10-BAE6-A790753D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7490F-D5DD-4E4E-85EA-B47D5D54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041DB-405A-4F74-917F-12CC6952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7D715-3312-4C0B-99BF-50343249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7079D-CAED-4D2E-98E8-0DFB7F5E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BC4EE-1FFD-4777-9AC0-3C5EA5C8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96ACC-9607-4781-AB0C-BD68DFEB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E1CE-D808-4A4D-9073-382BBD96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40796-D1C3-4C59-B5CD-CAA0D32B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4529F-FDA5-4EC5-9AC1-5ACCAF55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079C6-C61A-4448-9411-459B3696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3D1F7-3045-404C-BE6D-B0125FBF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56651-7BD7-460C-8F64-4E371108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0B73-D430-4F74-8EC8-62DBF648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D864-B974-479A-824C-CCDF7B13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721E-340F-4D84-A6FA-D34F9C8C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E98B-C946-45BD-BEF2-345E0042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DD63-F5E8-4DF4-A08D-32090B42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79B-3E0F-411E-AC1C-56B3114B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93B9-44D3-48CF-A4ED-11B24118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6E5C-1556-49E6-B729-3FAE92D5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855A-9653-48B7-A9E2-AB977699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D2E9-B7CE-457F-9D43-7D63C302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2415-D6B3-4987-A230-8D48C98C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36680-9160-49FA-A186-BEA77AEC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9BC35-A8B0-41CC-9A2F-98B6D4CC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50EE2-FB96-475E-AFEC-D9729EC8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C6A79-CE1A-4C26-8EB2-35350090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85DE-F9A2-4F1F-83A6-C2A9A77E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D156-D3F6-4FE5-9B6D-4F14E74E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07B4-43C8-4411-9C70-F1DACD7A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DD465-8038-4584-A345-4B76D94F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37EFD-726B-4DD8-A63B-6E9561A7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6D15D-608F-4E46-8BB0-26279B36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ED639-554E-4F93-9341-2C66E2EC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4F3D-B4D8-496A-B95F-3026BE92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21709-36F3-4286-91BA-F41F34B2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D0216-9494-482D-98A9-1411F869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C9D09-2DE3-406C-BAD9-D2A99BE4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FBD5B-0004-488C-9F56-FABA44A9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BCB-FCAA-4FA2-81ED-946DB5D5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66E0F-1206-4A30-AB3A-BD8732C9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CEB68-5C98-4B28-953C-9C4703FD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FACA-4995-45D6-8EC9-43289FF4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370C8-9AA5-4C97-A3A1-2F812460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FB538-29C2-448B-832E-81547497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22600-801D-4715-96D5-342BFC94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3F51F-682A-4348-99A1-DFD12259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6405E-ABDE-4493-B42D-716DA24A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083DC-94E0-4EDB-B7AB-1C559378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F96FD-227B-4302-A179-0166021C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CFB-9493-448B-9141-73C6A96E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D6763-CD56-48FB-9BA2-4223AF08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C36E5-FEA7-43E9-BC2C-564A7394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08AFA-055B-4B9A-8745-312F5468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F821F-219F-4FD0-AE5E-2D1AC701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41EF3-440A-489B-A7F7-DC80A7B9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4C1AB-8B15-4D11-ADB0-D340A91A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D194D-AD7F-459B-AEA4-8C0CC4AF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79545-DE0D-49C0-B340-F332D93F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62064-C5A6-42D8-B445-218A1BA0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0E44D-B8EC-4F03-8FE0-2BF30108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076-0462-4F64-AA17-CE8EB7A6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18A7A-EF3D-456C-8E5F-F8A52809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C7814-B28C-46A7-B90D-13CB7EBD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4A4E7-DD88-4EF7-992E-FA758CBB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FCDA1-B7F5-4F06-A453-55DDD982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6DADC-1D89-4534-A6E3-DAD7B5C2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222B7-1221-447F-A7BA-6D8FA3E2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D5CA7-AB00-4A7A-8B1A-82451855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86F8C-B2A3-4B74-A259-7260C6D8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7E23A-B538-4FA9-9C58-FB1A9054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4A979-06E2-4182-8DE0-69951560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BD4-6859-4B14-AEE2-D6D47BBE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E2668-3C34-46AE-8FDD-69A77F19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72B8C-42AC-4708-8DDE-5D4ABB2E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3FBCE-DF50-4073-A72B-754585E3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3EA97-A3FD-42C1-97A6-46C96F8C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67EAF-CF34-43A5-B240-A8CB56CD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56363-3126-4016-8CFB-1DB8B9A7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0948C-3072-4274-8662-5EAD2CB1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8CDD8-949D-497E-B2F7-A989A459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67274-9158-40EE-BB11-88594681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BE596-6606-4921-BC50-A2A6C1FC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BAC-A49D-4FD9-A81F-7BFC9534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EB45B-7742-481C-99E7-C1F37C08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707DF-61ED-4F27-B403-7CB0A13B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6821B-5A5B-4DEF-8141-5D7D4F4D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347D8-87CB-410C-A607-D6BC155B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46C3D-6CFA-4226-AA32-90B8C0F4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38473-B8EE-4E35-8006-5095CA8F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B3ED2-47A1-4273-A56D-5E4C11EB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B15E5-2850-4781-A5EB-99AF596F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AC6B8-4275-45E1-B5C6-865EB4DA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2036F-90ED-47E7-B9C2-D92F40A4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AC0-A413-4467-83EA-46D20375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2FD2C-6A45-4AA5-8FDC-E892A288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229CB-A53A-433F-99CB-1F91EF31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2DECF-1D21-44B8-B3F1-34213958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0497D-FFF2-4C15-A915-0F13F37A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1A7B2-BD92-453F-9DA4-ECB2E0C9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0BA9D-4770-4B71-9760-DB59685E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50AF4-F68F-434B-B7D5-8B80F7B6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2FF16-E97A-4AF0-831A-552F232A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C042C-0D59-4464-88E5-E5CBFD41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A3966-27CF-4B8E-BEF7-A60CDF68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2034-6565-4D7D-BDF2-E03EC9A17E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EED8-AC8B-4AEA-9631-04AD5C653B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FFF1-9556-45F1-8CE5-B4A6B85BA0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FB7A-EF8E-46BF-B674-798DCD9427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D8CD-C0B6-4B9E-A199-BDC548A81B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04CF-7808-490A-81E0-B2FCE50B91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5DD7-9F36-46C6-9120-C3051CD96E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E94C-4678-41AB-B473-01B5C5AC43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71B9-E69F-4D5D-B803-CE753483ED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1ADE-9DA6-46B4-B0DB-F15B1702FA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DF8C-33F4-4F4A-87EC-F3E8B20BF1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02EB-6F0D-41D6-8EFD-790A6D5797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ритериальное оценивание на уроках русского язык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МАОУ Домодедовская СОШ №12 имени полного кавалера ордена Славы В.Д.Прес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Подготовила: Брыкина Н.Е., учитель русского языка и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мостоятельная работа по русскому языку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 класс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:Второстепенные члены предложения .Приложение»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самостоятельн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редложения с наличием приложений( каждому обучающемуся на отдельной карточке №1 распечатаны заране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Грамматическое задание к самостоятельной работе( на тех же карточках №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Критерии оценивания( на отдельных распечатанных карточках №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Карточка №3( самопроверки или взаимопровер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...тупись о (старец) море дай приют в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угре берёза (свечка) в лунных перьях с...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..рыгунья (стрекоза) лето красное проп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..ик (к...смонавт) Алексей Леонов первый человек вышедший в косм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(историк) рука об руку ш..л с Пушкиным (художником) работая одновреме...о над историей Пугач..ва и над повестью Капитанская д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 (царевич) с честью прош...л все испытания и одержал верх над силам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утра сидит на оз..ре любитель(рыбо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1( обратная сторона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мматическое задание к самостоятельной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пишите предложения, вставляя пропущенные буквы и раскрывая ско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сставьте знаки препи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Подчеркните грамматическую основу в предлож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Укажите синтаксическую роль при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2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итерии для оценивания самостоятельной работы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838080" y="1825560"/>
          <a:ext cx="10515600" cy="53942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  <a:gridCol w="2629080"/>
                <a:gridCol w="262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правильных орфограмм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 правильных орфограмм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 орфограмм -0,5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или менее орфограмм - 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правильно поставленных знаков препинания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правильно поставленных знака препинания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авильно поставленных знака препинания - 0, 5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ли менее поставленных знаков препинания -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 правильно подчёркнутых грамматических основ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 правильно подчёркнутых грамматических основ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правильно подчёркнутых грамматических основ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или менее правильно подчёркнутых грамматических основ - 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правильно подчёркнутых приложений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9 правильно подчёркнутых приложений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 правильно подчёркнутых приложений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или менее правильно подчёркнутых приложений - 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3. Предложения для взаимопроверки и самопроверки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упись, о старец- море, дай приют в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угре берёза- свечка в лунных перьях се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ыгунья – стрекоза лето красное проп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тчик –космонавт Алексей Леонов – первый человек, вышедший в открытый косм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-историк рука об руку шёл с Пушкиным-художником, работая над историей Пугачёва и повестью «Капитанская доч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-царевич с честью прошёл все испытания и одержал верх над силам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утра сидит на озере любитель – рыбо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осуществляется проверка по критериям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бучающиеся получают Карточку №1 и Карточку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ыполняют письменно самостоятельную работу и грамматическое задание к 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Через 25-28 минут обмениваются тетрадями, откладывают ручки. Берут ручки с зелёными стержн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олучают Карточки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Осуществляют проверку работ товар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ика проведения самостоятельной работы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От обратного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а экране выводится материал Карточки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бучающиеся читают внимательно , обращая внимание на знаки препинания, орфограммы, словарные слова в течение 2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Экран выключ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бучающиеся получают Карточки №1 и Карточки №2. Выполняют р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Через 25-28 минут обмениваются тетрадями . Также сменив ручки с синей пастой на ручки с зелёной па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Получают Карточки №3. Проводят проверку по критериям.Оценивают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особенно эффективен в классе с детьми – инофо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ика проведения самостоятельной работы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Я САМ...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Карточка №3 выводится на эк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бучающиеся в течение 2 минут изучают текст( +функциональная грамотность и вдумчивое чт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.Экран выключ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бучающиеся получают Карточки №1 и Карточки №2. Выполняют самостоятельную работу в течение 25-28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Получают Карточку №3. Проверяют работу каждый СВОЮ. Оценивают по критер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ой метод можно применить в классе с высоким уровнем сознательности  и ч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ём преимущество КО перед другими приёмами оценивния?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роверка работ с использованием критериев способствует объективции оцен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О способствует вовлечение в работу всех обуч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О позволяет формировать у обучающихся позитивное отношение к и повышению ответственности за результ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КО позволяет воспитывать обучающихся усидчивыми, прилежными и трудолюби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Объект 1114388839" descr=""/>
          <p:cNvPicPr/>
          <p:nvPr/>
        </p:nvPicPr>
        <p:blipFill>
          <a:blip r:embed="rId1"/>
          <a:stretch/>
        </p:blipFill>
        <p:spPr>
          <a:xfrm>
            <a:off x="2228760" y="1825560"/>
            <a:ext cx="7734240" cy="43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ункции критериального оценивания в соответствии с современными ФГОС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буч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Контрол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Разви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Воспиты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Диагнос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Мотив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Оцени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современного критериального оценивания в соответствии с современными ФГОС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пределение уровня подготовленности обучающегося на каждом этапе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Анализ достижения учениками целей и результатов обучения в соответствии с учебной 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ониторинг индивидуального прогресса каждого обучающегося и коррекция индивидуальной траектории развития обучающего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Мотивация обучающихся на устранение пробелов в усвоении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Дифференцирование значимости оценок. Полученных за выполнение различных видов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Мониторинг эффективности учебн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Обеспечение обратной связи между учителем, обучающимся и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Объект 1922396450" descr=""/>
          <p:cNvPicPr/>
          <p:nvPr/>
        </p:nvPicPr>
        <p:blipFill>
          <a:blip r:embed="rId1"/>
          <a:stretch/>
        </p:blipFill>
        <p:spPr>
          <a:xfrm>
            <a:off x="1332000" y="365040"/>
            <a:ext cx="8905680" cy="600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ктическая значимость критериального оценивания( КО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 способствует способствует снижению тревожности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О способствует формированию у обучающихся навыков самоанализа и  само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О формирует чувство ответственности за результат свое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О даёт оценку только работе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О позволяет сравнивать работу обучающегося с эталоном правильно выполнен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КО позволяет обучающемуся знать алгоритм выставления оценки и самому оценить свою работу или работу сверст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ффективность метода КО в условиях современной школы очевидна. Следует учитывать факторы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Обучаются дети разных способностей и накло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Неоднородный национальный 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Обучающиеся с особыми возможностями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Обучаются дети из национальных школ с неродным русским язы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Метод критериального оценивания можно применять на разных урока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уроках русского языка оцениванию подлежат предметные результат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Объект 1962858185" descr=""/>
          <p:cNvPicPr/>
          <p:nvPr/>
        </p:nvPicPr>
        <p:blipFill>
          <a:blip r:embed="rId1"/>
          <a:stretch/>
        </p:blipFill>
        <p:spPr>
          <a:xfrm>
            <a:off x="3375000" y="1825560"/>
            <a:ext cx="5442120" cy="43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является объектом оценивани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Уст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Тестов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ровероч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Практ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Учебные работы(сообщения, презентации, схемы по темам урока и проче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Творческие работы (сочинения, проекты, научно-исследовательские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Выразительное ч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Друг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ак можно организовать работу на практике?...</a:t>
            </a: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Демонстрация на наглядном примере.</a:t>
            </a: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Метод №1  « Три файла»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Объект 31314648" descr=""/>
          <p:cNvPicPr/>
          <p:nvPr/>
        </p:nvPicPr>
        <p:blipFill>
          <a:blip r:embed="rId1"/>
          <a:stretch/>
        </p:blipFill>
        <p:spPr>
          <a:xfrm>
            <a:off x="2286000" y="1859040"/>
            <a:ext cx="76201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МЦ</dc:creator>
  <dc:description/>
  <dc:language>en-US</dc:language>
  <cp:lastModifiedBy>УМЦ</cp:lastModifiedBy>
  <dcterms:modified xsi:type="dcterms:W3CDTF">2025-03-25T12:15:45Z</dcterms:modified>
  <cp:revision>8</cp:revision>
  <dc:subject/>
  <dc:title>Критериальное оценивание на уроках русского языка</dc:title>
</cp:coreProperties>
</file>