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773A-DF8D-4E5D-A249-0900C14A9E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051D-7A45-4812-9AA7-76EF8F795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74FC-DCFD-47D0-921F-37D5CD437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4486-1479-4293-8655-E04BD9E8B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350A-27B6-4DF0-A17E-71F759700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5716-7745-4A84-9CC5-AC1BFEB4D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E17-FC0B-4AE8-947D-9E03408EC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F11-9E27-4B6E-AD30-39A31C18F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E32F-34EB-4FBB-975C-3C2DC90DD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B875-6040-4C06-BEC8-44F96ADD7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9353-E8ED-46AF-B9AB-9EF650A52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2BA-4B49-442A-A8E2-D77DA9EA9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D75-77F5-44B1-937E-D9EB2D1CC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A9B-46D9-4298-810F-A70E4C997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2F8-8171-4F1A-A6FD-C4A65EF79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252F-CC66-4F1C-9CF1-423E8DB09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7D8-1529-4E99-BCB4-1C5E54405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6E6-4C40-45D9-B1A4-CAF15565F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1396-9953-4636-8462-90F6DD684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CD8-B681-443C-AFB1-53B6A3A93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076-DF99-4432-B0C9-26A53363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8DE-A0A3-4630-B3D8-7DF2FD7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A9EB1-672B-4875-AAEE-A7CCCB4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B4EB6-3423-4E0A-B5F9-ED96E53F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F3097-88CD-4051-A646-36C98A8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642AC-06CD-481C-A9D5-F943C75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0E737-F356-4512-9C6F-5970D6B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21A8F-A365-46E0-BF27-89927FB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FAAD-B2D4-4B41-BF18-16A6C2B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3CB8D-3303-44AE-A018-B18646F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08F45-166A-4F2F-BA06-B1DCE6CA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EDA1A-FE64-446F-803F-AD999557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DA9-6F7D-4461-9773-5A2CD5BB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88611-FBAF-4401-9E8B-027596EA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5059D-5880-4006-9C71-4F36114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E872F-6FC6-481B-8513-FA5C3F7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AC5B8-E5E0-4180-ADB8-F37749A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25B7D-80C9-48DF-AFD2-F435C0D2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1AAB1-6A88-4FC3-B207-F115868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12B3A-36CB-4285-BFEB-F8D3816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001B3-1CF2-4C48-8B46-D5AFC5DC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DCFD-3D6D-4259-9562-D70BDA4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79F25-C2C8-4F93-852C-02DDD75B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ADD-4950-461E-923D-7B1FF3AD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BEBAB-750C-409E-AFC4-2A48546C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AF46D-3CD9-4582-821E-C15B3428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4E742-E386-4400-BBE9-7D40B31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3E4BA-7F5C-43CF-93AE-71B53834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87A4-023A-49BF-805A-7D03482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69D29-C091-4FBA-A67F-767E47B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C4E16-FBF6-4148-9C22-BA5EBA9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FC36-2149-47AA-ACC2-F6D6A41E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88AA-7DAA-4504-940C-CA9C5EF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5C1F7-FB00-4AA1-8F45-3ADE390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7AAC-08B5-4EDF-B639-2393650A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2563-9CE0-4A56-ABE7-716792D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0879A-2429-4794-9EEF-CC88D744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9CA8-9942-49F6-8458-7DC5167D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9DBC8-7E4A-4BAB-BAC4-6AC3F991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9F0E9-5409-4386-B9C9-20F1296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8D16C-8036-4C07-AC18-52FB398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98C1-1729-454F-9DA4-D53F182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FCFCC-9580-4FC9-9831-5946DCD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1DA3-EDDA-420E-AC68-E3FE3AA6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DAA30-8DE2-4D62-B589-76AD09E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081-B377-4AF5-8E79-741BDD7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01DAD-4E52-449A-8ADD-F8A0704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2E5A9-A563-4DEB-A5DD-6710A36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AEB53-4991-4C54-9E4B-B47E8F22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A96A5-D890-440F-A050-153307EA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1E007-8A26-4F27-B2B3-FB0AFC2A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4DF-A494-4877-BB2E-28C6837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557-C87F-43E2-9CFD-62E0148A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639-3205-480D-A463-AEB866F7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156-4B2C-4E91-A6F5-37D1948E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D02-69F8-447A-AAB2-D9728C3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4BC-DA63-446D-9FCD-5C81E7C4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343-9E6B-4E5C-9098-B0891E4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73A-4818-45E1-8649-FD9FE56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CD8-C054-4456-842C-C2F0D87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E4F9-9620-4DA0-AF6B-97824CB0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6F9-7864-4DEB-A9A3-1D1FBEE5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E6EC-4A60-4573-BD59-935D4F4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8394-7B17-4E39-AF9D-11BB99F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FDCF-DA74-45CB-910B-76B5265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5A14-4B93-44A8-9B78-37AD27BC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A0B7-CB0A-4949-ABB6-FD7FC2C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7CC-331C-4BC5-A4DF-03EF0A17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1A07-FAC4-4508-9FFE-242BAF0F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2FC9-51DB-45B6-AA9A-DFA1426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6AAE-F31A-41AA-9FE9-FA0028A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7F82-5DD3-41D2-B843-7D90A47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AF34-F000-47EE-9DF5-605969E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E830-527D-4B10-96B7-537C0C4B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4816-6BEA-48DF-BD03-6B39F617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67D4-831B-4F71-84C7-69694797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6F32-EB0F-43AA-8ADB-2C22A47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0ED7-B21A-458B-94CE-23B831A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270-59B9-4495-AA8A-505B8D7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96C6-B705-409F-970B-ABA6430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83E7-88DC-4B66-A7CF-F28B58AC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C780-2349-478A-B8EB-1ECC8CE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39E9-BBCB-48DF-8748-6474F3A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65B0-E2D3-4193-B037-310CC41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0FBA-5739-48C7-B490-ADCC4E61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D4DA-9ED6-4902-A3B3-788E8EA6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E8A9-D6F1-4C4E-8914-B7303911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DB4D-1039-46DF-820E-1F9644E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5FD0-DDFC-4DE7-A99F-F1806B03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C8C-9207-4D71-B311-0BC2A72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8ABC-A48B-41AC-B950-7ABAA57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4C99C-6D0D-49CE-B013-623316DF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37F8-F0C3-47BB-87EE-94828AF4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3D0E-B4E0-4CDD-A469-D6D9ACF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14E2-F052-47CE-AE05-AE5CF0D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98A1-D13D-48AD-B42B-6105C7E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544F3-3681-4C9D-B3F4-FC7A667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5A2F-1ACC-43D1-851F-1D822FC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E45A-C1F8-4796-9A20-6BB3B41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D48C-3654-4594-80ED-ED610674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602-1152-497D-867F-B15728B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62BFA-5208-4D0A-8EA7-A6B9C430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2083-08F7-4E15-9F54-33EF1F12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1A56-E370-4670-B4EE-8668C30D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9092-DFC2-4FC1-B673-EB0ABF8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4E1A-D074-4E85-9975-29893BE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95AE2-4C57-4AE1-BDC2-74DBCBDA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4542-EFCE-4122-A8EE-3CDC1EA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6A97-E379-438D-B01B-414639A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F638-3A16-4922-BDF7-49F2D7A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D2F6-E15E-457F-824E-050CADD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AE7-73F5-4B1D-9FE5-1090022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7676E-0ECD-4452-B984-55F5D59E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805F-960F-4ADA-8B24-693666FD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1EDE7-965F-4393-8E0D-E41CDA38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B06E9-5530-4ED6-B3E0-2E46D7B2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2D3D-B3EC-463F-A612-D8996ADD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E6FE-4675-429E-BC1D-DA4EEF3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0FB8-9BDF-45F7-A2BB-56BF0DAB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386F-F292-497B-A63E-291E6FDC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F4F60-1776-486A-852F-D4277FC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9687-4F1C-4C06-AD37-45A8FD2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6BD-515E-44C6-A299-411119C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7198-EA1A-4588-8813-1702683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9A97-BE45-4B44-BC86-495E1A74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C7B3-4F22-4576-B309-2233B865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26E7-52D5-4346-A343-21754C4C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08FA-9FDE-4B92-A8FE-21774635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7FD1-DBCA-47DF-8AC5-B8E7FFDB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C853-A28D-4722-A0AD-EF2AB9E8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6254-2779-4F98-8B52-142FC253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B4DC6-B600-4323-8F05-2E23CE93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4442-F2EE-4B37-AF82-C00CCCF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ABB-1B45-402B-9D93-1F59959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F478-2DE6-4E1D-A2D3-9DE348D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0C1B-78BB-4CCC-BD26-E89A8F2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43CA2-40A5-4B27-A3B0-BB46A9E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407B-7C67-4603-B5B3-0D56326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95A38-EE49-4C85-909E-731EC1D2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F615-0242-4959-80FB-C1926424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6610C-B9B5-4993-BED8-888F825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E807-0D66-4BDE-8D8A-26054D7E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A0498-D7DE-4ABA-97E4-4BE77A01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063BE-302B-412F-B1BB-B47E12A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F64-58EB-4C47-A274-2DBBAB918E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4194-48C5-4C85-8EEA-BEE798975D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4B6-5291-4E3B-A7EE-8C9F2514DB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577C-F804-4524-86E9-24A445BD55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651A-12D2-4D7A-9548-6F390717C2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538-490C-476F-AD3E-9649426D37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3B71-957D-46BF-A488-E194379BF8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9FB0-034E-4199-B29F-7920C8A06B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6B0-0018-4BE1-BC79-22D7504316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5879-F43B-419F-82F2-BCDBE92FB6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796F-B0C8-4747-9213-D80968CE0D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A458-E726-4933-A21E-F141763243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ритериальное оценивание на уроках русского язык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МАОУ Домодедовская СОШ №12 имени полного кавалера ордена Славы В.Д.Пре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Подготовила: Брыкина Н.Е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 по русскому язык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:Второстепенные члены предложения .Приложение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едложения с наличием приложений( каждому обучающемуся на отдельной карточке №1 распечатаны заран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рамматическое задание к самостоятельной работе( на тех же карточках №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ритерии оценивания( на отдельных распечатанных карточках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рточка №3( самопроверки или взаимопров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.тупись о (старец) море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 (свечка) в лунных перьях с...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..рыгунья (стрекоза)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..ик (к...смонавт) Алексей Леонов первый человек вышедший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(историк) рука об руку ш..л с Пушкиным (художником) работая одновреме...о над историей Пугач..ва и над повестью Капитанская 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(царевич) с честью прош...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..ре любитель(рыбо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1( обратная сторона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ое задание к самостояте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пишите предложения, вставляя пропущенные буквы и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дчеркните грамматическую основу в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кажите синтаксическую роль при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2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итерии для оценивания самостоятельной работ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1825560"/>
          <a:ext cx="10515600" cy="53942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правильных орфограмм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правильных орфограмм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орфограмм -0,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или менее орфограмм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правильно поставленных знаков препинания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авильно поставленных знака препинания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авильно поставленных знака препинания - 0, 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ли менее поставленных знаков препинания -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или менее правильно подчёркнутых грамматических основ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правильно подчёркнутых приложений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правильно подчёркнутых приложений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правильно подчёркнутых приложений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или менее правильно подчёркнутых приложений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3. Предложения для взаимопроверки и самопроверк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упись, о старец- море,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- свечка в лунных перьях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ыгунья – стрекоза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тчик –космонавт Алексей Леонов – первый человек, вышедший в открытый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-историк рука об руку шёл с Пушкиным-художником, работая над историей Пугачёва и повестью «Капитанская д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-царевич с честью прошё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ере любитель – рыб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существляется проверка по критериям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иеся получают Карточку №1 и Карточку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яют письменно самостоятельную работу и грамматическое задание к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рез 25-28 минут обмениваются тетрадями, откладывают ручки. Берут ручки с зелёными стерж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ают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существляют проверку работ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т обратног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экране выводится материал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читают внимательно , обращая внимание на знаки препинания, орфограммы, словарные слова в течение 2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Через 25-28 минут обмениваются тетрадями . Также сменив ручки с синей пастой на ручки с зелёной па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лучают Карточки №3. Проводят проверку по критериям.Оцениваю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особенно эффективен в классе с детьми – иноф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Я САМ...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рточка №3 выводится на эк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в течение 2 минут изучают текст( +функциональная грамотность и вдумчивое чт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самостоятельную работу в течение 25-2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олучают Карточку №3. Проверяют работу каждый СВОЮ. Оценивают по крите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етод можно применить в классе с высоким уровнем сознательности  и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преимущество КО перед другими приёмами оценивния?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ка работ с использованием критериев способствует объективции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вовлечение в работу все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позволяет формировать у обучающихся позитивное отношение к и повышению ответственности за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О позволяет воспитывать обучающихся усидчивыми, прилежными и трудолюби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Объект 1114388839" descr=""/>
          <p:cNvPicPr/>
          <p:nvPr/>
        </p:nvPicPr>
        <p:blipFill>
          <a:blip r:embed="rId1"/>
          <a:stretch/>
        </p:blipFill>
        <p:spPr>
          <a:xfrm>
            <a:off x="2228760" y="1825560"/>
            <a:ext cx="773424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ункции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онтрол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Воспит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тив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цен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современного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уровня подготовленности обучающегося на каждом этапе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нализ достижения учениками целей и результатов обучения в соответствии с учебной 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ниторинг индивидуального прогресса каждого обучающегося и коррекция индивидуальной траектории развития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тивация обучающихся на устранение пробелов в усвоен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фференцирование значимости оценок. Полученных за выполнение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ниторинг эффективности учеб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беспечение обратной связи между учителем, обучающимся и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Объект 1922396450" descr=""/>
          <p:cNvPicPr/>
          <p:nvPr/>
        </p:nvPicPr>
        <p:blipFill>
          <a:blip r:embed="rId1"/>
          <a:stretch/>
        </p:blipFill>
        <p:spPr>
          <a:xfrm>
            <a:off x="1332000" y="365040"/>
            <a:ext cx="890568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значимость критериального оценивания( КО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 способствует способствует снижению тревожност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формированию у обучающихся навыков самоанализа и 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формирует чувство ответственности за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О даёт оценку только работе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 позволяет сравнивать работу обучающегося с эталоном правильно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О позволяет обучающемуся знать алгоритм выставления оценки и самому оценить свою работу или работу свер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ффективность метода КО в условиях современной школы очевидна. Следует учитывать фактор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учаются дети разных способностей и на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однородный национ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учающиеся с особ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бучаются дети из национальных школ с неродным русским язы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етод критериального оценивания можно применять на разных урока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ах русского языка оцениванию подлежат предметные результа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Объект 1962858185" descr=""/>
          <p:cNvPicPr/>
          <p:nvPr/>
        </p:nvPicPr>
        <p:blipFill>
          <a:blip r:embed="rId1"/>
          <a:stretch/>
        </p:blipFill>
        <p:spPr>
          <a:xfrm>
            <a:off x="3375000" y="1825560"/>
            <a:ext cx="544212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является объектом оценивани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ст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стов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Учебные работы(сообщения, презентации, схемы по темам урока и проч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Творческие работы (сочинения, проекты, научно-исследовательски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Выразитель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ак можно организовать работу на практике?..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емонстрация на наглядном примере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етод №1  « Три файла»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Объект 31314648" descr=""/>
          <p:cNvPicPr/>
          <p:nvPr/>
        </p:nvPicPr>
        <p:blipFill>
          <a:blip r:embed="rId1"/>
          <a:stretch/>
        </p:blipFill>
        <p:spPr>
          <a:xfrm>
            <a:off x="2286000" y="185904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МЦ</dc:creator>
  <dc:description/>
  <dc:language>en-US</dc:language>
  <cp:lastModifiedBy>УМЦ</cp:lastModifiedBy>
  <dcterms:modified xsi:type="dcterms:W3CDTF">2025-03-25T12:15:45Z</dcterms:modified>
  <cp:revision>8</cp:revision>
  <dc:subject/>
  <dc:title>Критериальное оценивание на уроках русского языка</dc:title>
</cp:coreProperties>
</file>