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569C-FBD8-457D-AD6E-1485B5A5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A969-F49A-4202-9C0F-165E4A2E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826B-DC2F-432F-B9F3-997C4A0B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9D3-5886-4493-AC00-E0F498E8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E9E4-B5CE-4B0D-BBA4-9EC5A064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B37-0BDD-481A-917B-E236375E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D59-DEDB-4F83-A5F4-88BC2251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F93-3634-4300-8D28-6F50E5B8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45D8-B62F-4BBE-8F7B-D60460BF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032-D0C4-47DA-B614-4C79E43A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A6AD-D4DE-405B-9BA3-B289E2C6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F243-890E-45FF-ACD5-CDA5B9D6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67676"/>
                </a:solidFill>
                <a:latin typeface="Apto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67676"/>
                </a:solidFill>
                <a:latin typeface="Apto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67676"/>
                </a:solidFill>
                <a:latin typeface="Apto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222D-7D76-49F9-94E9-9AEEE2DA5A8C}" type="slidenum">
              <a:rPr b="0" lang="ru-RU" sz="1200" spc="-1" strike="noStrike">
                <a:solidFill>
                  <a:srgbClr val="767676"/>
                </a:solidFill>
                <a:latin typeface="Apto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ptos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0" y="-49320"/>
            <a:ext cx="1217628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6836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2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8096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3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28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27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7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28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3-23T17:13:20Z</dcterms:created>
  <dc:creator>даша сучкова</dc:creator>
  <dc:description/>
  <dc:language>en-US</dc:language>
  <cp:lastModifiedBy>УМЦ</cp:lastModifiedBy>
  <dcterms:modified xsi:type="dcterms:W3CDTF">2025-03-25T12:17:03Z</dcterms:modified>
  <cp:revision>1</cp:revision>
  <dc:subject/>
  <dc:title>Презентация PowerPoint</dc:title>
</cp:coreProperties>
</file>